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F1A-853F-4CF6-AAA2-C6B0DA4D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135-8BB6-4C65-BC90-03A24DAE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8D8-E8EC-439E-A560-27B58EAD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6526-4C89-4471-B335-5A93347DB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9298-EAD2-4AB6-9D75-2E151A40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C94-E7CC-4A71-B16A-51A9C803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514-42FB-40DC-9CC4-6B8EE4FE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437-25F7-4FF8-A0B7-6C23F4CE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FFA-27F6-4895-B77F-A4B20436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98C8-8EAB-4E8A-9C21-3A8392C0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881-DE6F-4ED5-8BD9-C5A69B15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50DB-6B44-4E7D-B1CE-5E2C1D4C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1B0D-825B-4A18-9F56-BB9C6724B896}" type="slidenum">
              <a:rPr b="0" lang="ru-RU" sz="9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09480" y="1371600"/>
            <a:ext cx="8001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ақырыбы: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орлық-зомбылықсыз өмір сүру қажеттілігі»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28560" y="404640"/>
            <a:ext cx="788688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kk-KZ" sz="5400" spc="-1" strike="noStrike">
                <a:solidFill>
                  <a:srgbClr val="002060"/>
                </a:solidFill>
                <a:latin typeface="Calibri"/>
              </a:rPr>
              <a:t>Егер БАЛА отбасында зорлық-зомбылық көрсе, өзін қалай қорғай алады? Оларға кімдер көмектеседі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rcRect l="0" t="0" r="29731" b="8445"/>
          <a:stretch/>
        </p:blipFill>
        <p:spPr>
          <a:xfrm>
            <a:off x="3419640" y="4149720"/>
            <a:ext cx="273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8865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 Light"/>
              </a:rPr>
              <a:t>Қазақстандағы </a:t>
            </a:r>
            <a:r>
              <a:rPr b="1" lang="kk-KZ" sz="3600" spc="-1" strike="noStrike">
                <a:solidFill>
                  <a:srgbClr val="c00000"/>
                </a:solidFill>
                <a:latin typeface="Calibri Light"/>
              </a:rPr>
              <a:t>сенім телефондары</a:t>
            </a:r>
            <a:r>
              <a:rPr b="1" lang="kk-KZ" sz="3600" spc="-1" strike="noStrike">
                <a:solidFill>
                  <a:srgbClr val="000000"/>
                </a:solidFill>
                <a:latin typeface="Calibri Light"/>
              </a:rPr>
              <a:t>, </a:t>
            </a:r>
            <a:r>
              <a:rPr b="1" lang="kk-KZ" sz="3600" spc="-1" strike="noStrike">
                <a:solidFill>
                  <a:srgbClr val="ff0000"/>
                </a:solidFill>
                <a:latin typeface="Calibri Light"/>
              </a:rPr>
              <a:t>дағдарыс орталықтары</a:t>
            </a:r>
            <a:r>
              <a:rPr b="1" lang="kk-KZ" sz="3600" spc="-1" strike="noStrike">
                <a:solidFill>
                  <a:srgbClr val="000000"/>
                </a:solidFill>
                <a:latin typeface="Calibri Light"/>
              </a:rPr>
              <a:t>, </a:t>
            </a:r>
            <a:r>
              <a:rPr b="1" lang="kk-KZ" sz="3600" spc="-1" strike="noStrike">
                <a:solidFill>
                  <a:srgbClr val="00b050"/>
                </a:solidFill>
                <a:latin typeface="Calibri Light"/>
              </a:rPr>
              <a:t>психикалық денсаулық орталықтары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103320" y="1974960"/>
            <a:ext cx="879624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836640"/>
            <a:ext cx="7886880" cy="22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Calibri Light"/>
              </a:rPr>
              <a:t>Сендер өздеріңді зорлық-зомбылық, қысымшылық, қорқытудан өзіңді қалай қорғай аласың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3573360"/>
            <a:ext cx="788688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Calibri"/>
              </a:rPr>
              <a:t>Ол үшін нені білулерің керек деп ойлайсыңдар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img314"/>
          <p:cNvPicPr/>
          <p:nvPr/>
        </p:nvPicPr>
        <p:blipFill>
          <a:blip r:embed="rId1"/>
          <a:srcRect l="0" t="0" r="0" b="83"/>
          <a:stretch/>
        </p:blipFill>
        <p:spPr>
          <a:xfrm>
            <a:off x="3456000" y="1628640"/>
            <a:ext cx="2452680" cy="324036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/>
          <p:cNvSpPr/>
          <p:nvPr/>
        </p:nvSpPr>
        <p:spPr>
          <a:xfrm>
            <a:off x="755640" y="577800"/>
            <a:ext cx="3024360" cy="1584360"/>
          </a:xfrm>
          <a:custGeom>
            <a:avLst/>
            <a:gdLst>
              <a:gd name="textAreaLeft" fmla="*/ 129600 w 3024360"/>
              <a:gd name="textAreaRight" fmla="*/ 2894760 w 3024360"/>
              <a:gd name="textAreaTop" fmla="*/ 129600 h 1584360"/>
              <a:gd name="textAreaBottom" fmla="*/ 1454760 h 1584360"/>
            </a:gdLst>
            <a:ahLst/>
            <a:rect l="textAreaLeft" t="textAreaTop" r="textAreaRight" b="textAreaBottom"/>
            <a:pathLst>
              <a:path w="41227" h="21600">
                <a:moveTo>
                  <a:pt x="2500" y="0"/>
                </a:moveTo>
                <a:arcTo wR="2500" hR="2500" stAng="0" swAng="5400000"/>
                <a:lnTo>
                  <a:pt x="0" y="19100"/>
                </a:lnTo>
                <a:arcTo wR="2500" hR="2500" stAng="16200000" swAng="5400000"/>
                <a:lnTo>
                  <a:pt x="38727" y="21600"/>
                </a:lnTo>
                <a:arcTo wR="2500" hR="2500" stAng="10800000" swAng="5400000"/>
                <a:lnTo>
                  <a:pt x="41227" y="2500"/>
                </a:lnTo>
                <a:arcTo wR="2500" hR="25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66"/>
                </a:solidFill>
                <a:latin typeface="Times New Roman"/>
              </a:rPr>
              <a:t>Декларация-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тараптар мақұлдаған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жалпы принцитер мен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мақсаттарды қалыптастыратын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салтанатты акт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4876920" y="438120"/>
            <a:ext cx="3671640" cy="1889280"/>
          </a:xfrm>
          <a:prstGeom prst="octagon">
            <a:avLst>
              <a:gd name="adj" fmla="val 12801"/>
            </a:avLst>
          </a:prstGeom>
          <a:gradFill rotWithShape="0">
            <a:gsLst>
              <a:gs pos="0">
                <a:srgbClr val="99cc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66"/>
                </a:solidFill>
                <a:latin typeface="Times New Roman"/>
              </a:rPr>
              <a:t>Конституция -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конституциялық құрылысты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бекітетін, адам мен азаматтың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құқығы мен еркіндігін бекітетін,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мемлектеттік биліктің федеральдық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органдарын тағайындайтын негізгі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құрылтайшы саяси- құқықтық акт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835280" y="4797360"/>
            <a:ext cx="4895640" cy="1584360"/>
          </a:xfrm>
          <a:prstGeom prst="octagon">
            <a:avLst>
              <a:gd name="adj" fmla="val 19356"/>
            </a:avLst>
          </a:prstGeom>
          <a:gradFill rotWithShape="0">
            <a:gsLst>
              <a:gs pos="0">
                <a:srgbClr val="99cc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66"/>
                </a:solidFill>
                <a:latin typeface="Times New Roman"/>
              </a:rPr>
              <a:t>Құқық-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қоғамдағы адамдардың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өзара қарым- қатынасын реттеп отыратын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мемлекет белгілеп, қорғайтын нормалар мен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ережелер жиынтығы, осы нормаларды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зерттейтін ғылым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250920" y="2708280"/>
            <a:ext cx="3240000" cy="1728720"/>
          </a:xfrm>
          <a:prstGeom prst="octagon">
            <a:avLst>
              <a:gd name="adj" fmla="val 12801"/>
            </a:avLst>
          </a:prstGeom>
          <a:gradFill rotWithShape="0">
            <a:gsLst>
              <a:gs pos="0">
                <a:srgbClr val="99cc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66"/>
                </a:solidFill>
                <a:latin typeface="Times New Roman"/>
              </a:rPr>
              <a:t>Міндет </a:t>
            </a:r>
            <a:r>
              <a:rPr b="0" i="1" lang="kk-KZ" sz="1400" spc="-1" strike="noStrike">
                <a:solidFill>
                  <a:srgbClr val="000066"/>
                </a:solidFill>
                <a:latin typeface="Times New Roman"/>
              </a:rPr>
              <a:t>– адамдар бұлжытпай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000066"/>
                </a:solidFill>
                <a:latin typeface="Times New Roman"/>
              </a:rPr>
              <a:t>орындауға тиісті тәртіп пен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000066"/>
                </a:solidFill>
                <a:latin typeface="Times New Roman"/>
              </a:rPr>
              <a:t>қарым-қатынасқа қойылатын талап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5651640" y="3043080"/>
            <a:ext cx="3168360" cy="1584360"/>
          </a:xfrm>
          <a:custGeom>
            <a:avLst/>
            <a:gdLst>
              <a:gd name="textAreaLeft" fmla="*/ 129600 w 3168360"/>
              <a:gd name="textAreaRight" fmla="*/ 3038760 w 3168360"/>
              <a:gd name="textAreaTop" fmla="*/ 129600 h 1584360"/>
              <a:gd name="textAreaBottom" fmla="*/ 1454760 h 1584360"/>
            </a:gdLst>
            <a:ahLst/>
            <a:rect l="textAreaLeft" t="textAreaTop" r="textAreaRight" b="textAreaBottom"/>
            <a:pathLst>
              <a:path w="43190" h="21600">
                <a:moveTo>
                  <a:pt x="2500" y="0"/>
                </a:moveTo>
                <a:arcTo wR="2500" hR="2500" stAng="0" swAng="5400000"/>
                <a:lnTo>
                  <a:pt x="0" y="19100"/>
                </a:lnTo>
                <a:arcTo wR="2500" hR="2500" stAng="16200000" swAng="5400000"/>
                <a:lnTo>
                  <a:pt x="40690" y="21600"/>
                </a:lnTo>
                <a:arcTo wR="2500" hR="2500" stAng="10800000" swAng="5400000"/>
                <a:lnTo>
                  <a:pt x="43190" y="2500"/>
                </a:lnTo>
                <a:arcTo wR="2500" hR="2500" stAng="5400000" swAng="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0066"/>
                </a:solidFill>
                <a:latin typeface="Times New Roman"/>
              </a:rPr>
              <a:t>Мораль</a:t>
            </a:r>
            <a:r>
              <a:rPr b="0" lang="kk-KZ" sz="1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адамның іс-әрекетін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қайырымдылық пен зұлымдық,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әділдік пен әділетсіздік және т.б.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тұрғысынан реттеп отыратын 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660033"/>
                </a:solidFill>
                <a:latin typeface="Times New Roman"/>
              </a:rPr>
              <a:t>нормалар мен принциптер жүйесі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азаматтык кодекс"/>
          <p:cNvPicPr/>
          <p:nvPr/>
        </p:nvPicPr>
        <p:blipFill>
          <a:blip r:embed="rId1"/>
          <a:stretch/>
        </p:blipFill>
        <p:spPr>
          <a:xfrm rot="20072400">
            <a:off x="539640" y="475920"/>
            <a:ext cx="1782720" cy="2592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деклар"/>
          <p:cNvPicPr/>
          <p:nvPr/>
        </p:nvPicPr>
        <p:blipFill>
          <a:blip r:embed="rId2"/>
          <a:stretch/>
        </p:blipFill>
        <p:spPr>
          <a:xfrm rot="2017200">
            <a:off x="6516360" y="4005360"/>
            <a:ext cx="1655640" cy="23763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86" name="Picture 17" descr="Konstituciya"/>
          <p:cNvPicPr/>
          <p:nvPr/>
        </p:nvPicPr>
        <p:blipFill>
          <a:blip r:embed="rId3"/>
          <a:stretch/>
        </p:blipFill>
        <p:spPr>
          <a:xfrm rot="1843800">
            <a:off x="6815160" y="652320"/>
            <a:ext cx="1728720" cy="244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img310"/>
          <p:cNvPicPr/>
          <p:nvPr/>
        </p:nvPicPr>
        <p:blipFill>
          <a:blip r:embed="rId4"/>
          <a:srcRect l="0" t="0" r="52" b="0"/>
          <a:stretch/>
        </p:blipFill>
        <p:spPr>
          <a:xfrm>
            <a:off x="3708360" y="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2" descr="004"/>
          <p:cNvPicPr/>
          <p:nvPr/>
        </p:nvPicPr>
        <p:blipFill>
          <a:blip r:embed="rId5"/>
          <a:stretch/>
        </p:blipFill>
        <p:spPr>
          <a:xfrm rot="19945200">
            <a:off x="826920" y="4005000"/>
            <a:ext cx="1811520" cy="2449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3"/>
          <p:cNvSpPr/>
          <p:nvPr/>
        </p:nvSpPr>
        <p:spPr>
          <a:xfrm>
            <a:off x="2701080" y="4869000"/>
            <a:ext cx="372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66"/>
                </a:solidFill>
                <a:latin typeface="Times New Roman"/>
              </a:rPr>
              <a:t>Қазақстанда балалардың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66"/>
                </a:solidFill>
                <a:latin typeface="Times New Roman"/>
              </a:rPr>
              <a:t>құқықтық жағдайы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kk-KZ" sz="2400" spc="-1" strike="noStrike">
                <a:solidFill>
                  <a:srgbClr val="000066"/>
                </a:solidFill>
                <a:latin typeface="Times New Roman"/>
              </a:rPr>
              <a:t>мына заңдард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66"/>
                </a:solidFill>
                <a:latin typeface="Times New Roman"/>
              </a:rPr>
              <a:t>көрініс тапқа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25" descr="img315"/>
          <p:cNvPicPr/>
          <p:nvPr/>
        </p:nvPicPr>
        <p:blipFill>
          <a:blip r:embed="rId6">
            <a:lum contrast="18000"/>
          </a:blip>
          <a:srcRect l="0" t="0" r="122" b="113"/>
          <a:stretch/>
        </p:blipFill>
        <p:spPr>
          <a:xfrm>
            <a:off x="2771640" y="2708280"/>
            <a:ext cx="36021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51920" y="404640"/>
            <a:ext cx="89917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img310"/>
          <p:cNvPicPr/>
          <p:nvPr/>
        </p:nvPicPr>
        <p:blipFill>
          <a:blip r:embed="rId1"/>
          <a:srcRect l="0" t="0" r="75" b="0"/>
          <a:stretch/>
        </p:blipFill>
        <p:spPr>
          <a:xfrm>
            <a:off x="250920" y="3068640"/>
            <a:ext cx="2700360" cy="36003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5"/>
          <p:cNvSpPr/>
          <p:nvPr/>
        </p:nvSpPr>
        <p:spPr>
          <a:xfrm>
            <a:off x="3274920" y="438120"/>
            <a:ext cx="5545080" cy="3168720"/>
          </a:xfrm>
          <a:prstGeom prst="wedgeRoundRectCallout">
            <a:avLst>
              <a:gd name="adj1" fmla="val -48569"/>
              <a:gd name="adj2" fmla="val 85268"/>
              <a:gd name="adj3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Осы Конвенция бойынша сенің қандай құқықтарың бар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1920" y="404640"/>
            <a:ext cx="899172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img310"/>
          <p:cNvPicPr/>
          <p:nvPr/>
        </p:nvPicPr>
        <p:blipFill>
          <a:blip r:embed="rId1"/>
          <a:srcRect l="0" t="0" r="75" b="0"/>
          <a:stretch/>
        </p:blipFill>
        <p:spPr>
          <a:xfrm>
            <a:off x="250920" y="2924280"/>
            <a:ext cx="270036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>
            <a:off x="3708360" y="260280"/>
            <a:ext cx="4967280" cy="5905440"/>
          </a:xfrm>
          <a:prstGeom prst="wedgeRoundRectCallout">
            <a:avLst>
              <a:gd name="adj1" fmla="val -64060"/>
              <a:gd name="adj2" fmla="val 40509"/>
              <a:gd name="adj3" fmla="val 16667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Қоғам балаларға қатысты түрде қамтамасыз етуі тиіс негізгі принциптер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-Бала мүддесін барынша жақсы қамтамасыз ету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Кемсітпеу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Өмір сүру, есею және ержету құқығы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ла көзқарастарына құрметпен қарау;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аланы қорғау, оның қоғам өміріне;   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kk-KZ" sz="2000" spc="-1" strike="noStrike">
                <a:solidFill>
                  <a:srgbClr val="000099"/>
                </a:solidFill>
                <a:latin typeface="Times New Roman"/>
              </a:rPr>
              <a:t>белсенді түрде қатысуын қамтамасыз ету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Diagram 2"/>
          <p:cNvGrpSpPr/>
          <p:nvPr/>
        </p:nvGrpSpPr>
        <p:grpSpPr>
          <a:xfrm>
            <a:off x="1519200" y="186480"/>
            <a:ext cx="6297480" cy="6143040"/>
            <a:chOff x="1519200" y="186480"/>
            <a:chExt cx="6297480" cy="6143040"/>
          </a:xfrm>
        </p:grpSpPr>
        <p:sp>
          <p:nvSpPr>
            <p:cNvPr id="98" name="_s1028"/>
            <p:cNvSpPr/>
            <p:nvPr/>
          </p:nvSpPr>
          <p:spPr>
            <a:xfrm flipV="1">
              <a:off x="4405320" y="185760"/>
              <a:ext cx="524880" cy="510120"/>
            </a:xfrm>
            <a:custGeom>
              <a:avLst/>
              <a:gdLst>
                <a:gd name="textAreaLeft" fmla="*/ 188280 w 524880"/>
                <a:gd name="textAreaRight" fmla="*/ 336600 w 524880"/>
                <a:gd name="textAreaTop" fmla="*/ 182880 h 510120"/>
                <a:gd name="textAreaBottom" fmla="*/ 327240 h 51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700" spc="-1" strike="noStrike">
                  <a:solidFill>
                    <a:srgbClr val="000099"/>
                  </a:solidFill>
                  <a:latin typeface="Times New Roman"/>
                </a:rPr>
                <a:t>40 </a:t>
              </a: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Президент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99" name="_s1029"/>
            <p:cNvSpPr/>
            <p:nvPr/>
          </p:nvSpPr>
          <p:spPr>
            <a:xfrm flipV="1">
              <a:off x="4143240" y="696960"/>
              <a:ext cx="1049400" cy="513360"/>
            </a:xfrm>
            <a:custGeom>
              <a:avLst/>
              <a:gdLst>
                <a:gd name="textAreaLeft" fmla="*/ 230760 w 1049400"/>
                <a:gd name="textAreaRight" fmla="*/ 818640 w 1049400"/>
                <a:gd name="textAreaTop" fmla="*/ 112680 h 513360"/>
                <a:gd name="textAreaBottom" fmla="*/ 400680 h 5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30 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Сенат депутаты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0" name="_s1030"/>
            <p:cNvSpPr/>
            <p:nvPr/>
          </p:nvSpPr>
          <p:spPr>
            <a:xfrm flipV="1">
              <a:off x="3880800" y="1209600"/>
              <a:ext cx="1574280" cy="510840"/>
            </a:xfrm>
            <a:custGeom>
              <a:avLst/>
              <a:gdLst>
                <a:gd name="textAreaLeft" fmla="*/ 273240 w 1574280"/>
                <a:gd name="textAreaRight" fmla="*/ 1301040 w 1574280"/>
                <a:gd name="textAreaTop" fmla="*/ 88560 h 510840"/>
                <a:gd name="textAreaBottom" fmla="*/ 422280 h 51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25 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Полиция, сот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1" name="_s1031"/>
            <p:cNvSpPr/>
            <p:nvPr/>
          </p:nvSpPr>
          <p:spPr>
            <a:xfrm flipV="1">
              <a:off x="3618000" y="1721880"/>
              <a:ext cx="2099160" cy="513360"/>
            </a:xfrm>
            <a:custGeom>
              <a:avLst/>
              <a:gdLst>
                <a:gd name="textAreaLeft" fmla="*/ 315720 w 2099160"/>
                <a:gd name="textAreaRight" fmla="*/ 1783440 w 2099160"/>
                <a:gd name="textAreaTop" fmla="*/ 77040 h 513360"/>
                <a:gd name="textAreaBottom" fmla="*/ 436320 h 5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20 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Мәслихат депутаты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2" name="_s1032"/>
            <p:cNvSpPr/>
            <p:nvPr/>
          </p:nvSpPr>
          <p:spPr>
            <a:xfrm flipV="1">
              <a:off x="3355920" y="2234520"/>
              <a:ext cx="2624040" cy="510840"/>
            </a:xfrm>
            <a:custGeom>
              <a:avLst/>
              <a:gdLst>
                <a:gd name="textAreaLeft" fmla="*/ 358200 w 2624040"/>
                <a:gd name="textAreaRight" fmla="*/ 2265840 w 2624040"/>
                <a:gd name="textAreaTop" fmla="*/ 69480 h 510840"/>
                <a:gd name="textAreaBottom" fmla="*/ 441360 h 51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18 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Сайлау, үйлену құқығы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 flipV="1">
              <a:off x="3093480" y="2746080"/>
              <a:ext cx="3148560" cy="513360"/>
            </a:xfrm>
            <a:custGeom>
              <a:avLst/>
              <a:gdLst>
                <a:gd name="textAreaLeft" fmla="*/ 400680 w 3148560"/>
                <a:gd name="textAreaRight" fmla="*/ 2747880 w 3148560"/>
                <a:gd name="textAreaTop" fmla="*/ 65160 h 513360"/>
                <a:gd name="textAreaBottom" fmla="*/ 448200 h 5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17 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Өсиет жазу құқығы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4" name="_s1034"/>
            <p:cNvSpPr/>
            <p:nvPr/>
          </p:nvSpPr>
          <p:spPr>
            <a:xfrm flipV="1">
              <a:off x="2831040" y="3259080"/>
              <a:ext cx="3673440" cy="510840"/>
            </a:xfrm>
            <a:custGeom>
              <a:avLst/>
              <a:gdLst>
                <a:gd name="textAreaLeft" fmla="*/ 443160 w 3673440"/>
                <a:gd name="textAreaRight" fmla="*/ 3230280 w 3673440"/>
                <a:gd name="textAreaTop" fmla="*/ 61560 h 510840"/>
                <a:gd name="textAreaBottom" fmla="*/ 449280 h 51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16 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Төлқұжат, еңбек ету құқығы, қылмыстың барлық түрлері бойынша жауапқа тартылу 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5" name="_s1035"/>
            <p:cNvSpPr/>
            <p:nvPr/>
          </p:nvSpPr>
          <p:spPr>
            <a:xfrm flipV="1">
              <a:off x="2568960" y="3770640"/>
              <a:ext cx="4198320" cy="513360"/>
            </a:xfrm>
            <a:custGeom>
              <a:avLst/>
              <a:gdLst>
                <a:gd name="textAreaLeft" fmla="*/ 485640 w 4198320"/>
                <a:gd name="textAreaRight" fmla="*/ 3712680 w 4198320"/>
                <a:gd name="textAreaTop" fmla="*/ 59400 h 513360"/>
                <a:gd name="textAreaBottom" fmla="*/ 453960 h 5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25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15 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Жұмыс істеу (рұқсатпен)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6" name="_s1036"/>
            <p:cNvSpPr/>
            <p:nvPr/>
          </p:nvSpPr>
          <p:spPr>
            <a:xfrm flipV="1">
              <a:off x="2306520" y="4283280"/>
              <a:ext cx="4723200" cy="510840"/>
            </a:xfrm>
            <a:custGeom>
              <a:avLst/>
              <a:gdLst>
                <a:gd name="textAreaLeft" fmla="*/ 528480 w 4723200"/>
                <a:gd name="textAreaRight" fmla="*/ 4194720 w 4723200"/>
                <a:gd name="textAreaTop" fmla="*/ 56880 h 510840"/>
                <a:gd name="textAreaBottom" fmla="*/ 453960 h 51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400" y="21600"/>
                  </a:lnTo>
                  <a:lnTo>
                    <a:pt x="1200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14 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Қылмыстық ісі үшін жауапқа тартылу, еңбекақыға иелік ету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 flipV="1">
              <a:off x="2043720" y="4795200"/>
              <a:ext cx="5248080" cy="513360"/>
            </a:xfrm>
            <a:custGeom>
              <a:avLst/>
              <a:gdLst>
                <a:gd name="textAreaLeft" fmla="*/ 570960 w 5248080"/>
                <a:gd name="textAreaRight" fmla="*/ 4677120 w 5248080"/>
                <a:gd name="textAreaTop" fmla="*/ 55800 h 513360"/>
                <a:gd name="textAreaBottom" fmla="*/ 457560 h 5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0" y="21600"/>
                  </a:lnTo>
                  <a:lnTo>
                    <a:pt x="1080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10 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Асырап алуға, қорғаншы болуға келісім беру, ата-аналарының қайсысымен тұруын таңдау құқығы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8" name="_s1038"/>
            <p:cNvSpPr/>
            <p:nvPr/>
          </p:nvSpPr>
          <p:spPr>
            <a:xfrm flipV="1">
              <a:off x="1781280" y="5307480"/>
              <a:ext cx="5772960" cy="510120"/>
            </a:xfrm>
            <a:custGeom>
              <a:avLst/>
              <a:gdLst>
                <a:gd name="textAreaLeft" fmla="*/ 613440 w 5772960"/>
                <a:gd name="textAreaRight" fmla="*/ 5159520 w 5772960"/>
                <a:gd name="textAreaTop" fmla="*/ 54000 h 510120"/>
                <a:gd name="textAreaBottom" fmla="*/ 456120 h 51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618" y="21600"/>
                  </a:lnTo>
                  <a:lnTo>
                    <a:pt x="982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6-7 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Тұрмыстық келісім шаралар, мектепке оқуға бару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109" name="_s1039"/>
            <p:cNvSpPr/>
            <p:nvPr/>
          </p:nvSpPr>
          <p:spPr>
            <a:xfrm flipV="1">
              <a:off x="1519200" y="5817960"/>
              <a:ext cx="6297480" cy="510840"/>
            </a:xfrm>
            <a:custGeom>
              <a:avLst/>
              <a:gdLst>
                <a:gd name="textAreaLeft" fmla="*/ 655920 w 6297480"/>
                <a:gd name="textAreaRight" fmla="*/ 5641560 w 6297480"/>
                <a:gd name="textAreaTop" fmla="*/ 52920 h 510840"/>
                <a:gd name="textAreaBottom" fmla="*/ 457920 h 51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700" y="21600"/>
                  </a:lnTo>
                  <a:lnTo>
                    <a:pt x="900" y="21600"/>
                  </a:lnTo>
                  <a:close/>
                </a:path>
              </a:pathLst>
            </a:custGeom>
            <a:solidFill>
              <a:srgbClr val="5b9bd5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0 жас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700" spc="-1" strike="noStrike">
                  <a:solidFill>
                    <a:srgbClr val="000099"/>
                  </a:solidFill>
                  <a:latin typeface="Times New Roman"/>
                </a:rPr>
                <a:t>Туу, құқыққабілеттілікке ие болу</a:t>
              </a:r>
              <a:endParaRPr b="0" lang="en-US" sz="17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452520" y="476280"/>
            <a:ext cx="8512200" cy="59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-бап.</a:t>
            </a:r>
            <a:r>
              <a:rPr b="0" lang="kk-KZ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Заң мен сот алдында жұрттың бәрі тең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-бап.</a:t>
            </a:r>
            <a:r>
              <a:rPr b="0" lang="kk-KZ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дамның қадір-қасиетіне қол сұғылмайд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бап.</a:t>
            </a:r>
            <a:r>
              <a:rPr b="0" lang="kk-KZ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Әркімнің өмір сүруге құқығы бар. Ешкімнің өз бетінше адам өмірін қиюға хақысы жоқ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0" y="-52560"/>
            <a:ext cx="891540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орытынды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дамзат дүниесінің әсемдігі, әлемнің әдемілігі үшін не үлес қосып жүрміз?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Мен былай дегім келеді.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Әлемнің бір адамы ретінде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қ жүрегіммен сөз беремін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Өзіме, жанымдағыларға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үннің шуағын, гүлдің нәзіктігін сыйлаймыз.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Қараңғыны нұрландырамыз,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уықты жылытамыз.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Дәл қазір бізге қиын жағдай болса да жасымаймыз,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Әр күні өзіміздің жан дүниемізді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Тазартуға тырысамыз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Біздің жүрегім қуанышқа, махаббатқа,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Мейірімге бөленеді.</a:t>
            </a:r>
            <a:br>
              <a:rPr sz="2400"/>
            </a:b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Келер күннің шұғылалы боларына сенеміз,</a:t>
            </a:r>
            <a:br>
              <a:rPr sz="2400"/>
            </a:br>
            <a:r>
              <a:rPr b="1" lang="kk-KZ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Біз 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орлық-зомбылыққа қарсымы</a:t>
            </a:r>
            <a:r>
              <a:rPr b="1" lang="kk-KZ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з</a:t>
            </a:r>
            <a:r>
              <a:rPr b="1" lang="ru-RU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24000" y="1587600"/>
            <a:ext cx="864072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қсаты: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қушыларға зорлық –зомбылық</a:t>
            </a:r>
            <a:r>
              <a:rPr b="1" lang="kk-KZ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ң адам өміріне зияны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туралы түсіндіру.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амның ең басты құндылығы туралы ойларын кеңейту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аман әдеттерден аулақ болып, рухани-адамгершілік құндылықтарды сіңіру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622440" y="255600"/>
            <a:ext cx="789912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27280" y="260280"/>
            <a:ext cx="41590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Зорлық-зомбылық көрген адам өзін қалай сезінеді деп ойлайсыңдар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289080" y="2852640"/>
            <a:ext cx="4174920" cy="2860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"/>
          <p:cNvPicPr/>
          <p:nvPr/>
        </p:nvPicPr>
        <p:blipFill>
          <a:blip r:embed="rId2"/>
          <a:srcRect l="24803" t="11887" r="0" b="0"/>
          <a:stretch/>
        </p:blipFill>
        <p:spPr>
          <a:xfrm>
            <a:off x="4788000" y="3500280"/>
            <a:ext cx="4135320" cy="32036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"/>
          <p:cNvPicPr/>
          <p:nvPr/>
        </p:nvPicPr>
        <p:blipFill>
          <a:blip r:embed="rId3"/>
          <a:srcRect l="21031" t="0" r="3763" b="11306"/>
          <a:stretch/>
        </p:blipFill>
        <p:spPr>
          <a:xfrm>
            <a:off x="946080" y="244440"/>
            <a:ext cx="2808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171360" y="262080"/>
            <a:ext cx="834408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622440" y="334800"/>
            <a:ext cx="7905600" cy="58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95280" y="906840"/>
            <a:ext cx="8640720" cy="457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Қоғам үшін ең бастысы – тәуелсіздік, адам үшін бас бостандығы және уайым қайғысыз өмір сүру.Оның кепілі –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ңдылық.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ң басты құндылық –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ам бостандығ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Адамның және адамзаттың құқықтары мен бас бостандықтарын қамтамасыз ету және қорғау – конституцияның басты талабы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зақстанда салауатты өмір салтына қол жеткізуде, денсаулықты сақтау мен нығайтудағы басты міндеттің бірі – бала құқығын қорғау, зорлық-зомбылыққа қарсы күрес. </a:t>
            </a:r>
            <a:endParaRPr b="0" lang="en-US" sz="2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08000" y="504360"/>
            <a:ext cx="889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орлық-зомбылық құқық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ір адамның екінші бір адамға, оның жеке басына тиіспеушілік құқығын бұзатын тән және психикалық ықпал жасауы» делінген.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ән азабын шектірген зорлық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адамның ағзасына тікелей әсер ету, ұрып-соғу, денесіне зақым келтіру, тағы басқа. Тән азабын шектірген зорлықтың салдарынан жәбірленушінің денсаулығына зиян келтірілуі мүмкін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ан азабын шектірген зорлық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жәбірленушінің қарсылық көрсетуіне, өз құқықтары мен мүдделерін қорғауына деген ерік жігерін жасыту үшін қорқыту, адамның психикасына әсер ету. Жан азабын шектірген зорлық жүйке ауруына немесе тіпті жан ауруына ұшыратуы мүмкі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мның өмірі мен денсаулығына қауіпті әдіс қолданылып жасалған қылмыстар «Қазақстан Республикасының Қылмыстық кодексінің» тиісті баптарына сәйкес жауаптылық пен жазаны ауырлататын жағдайлар болып табылады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tempimage14"/>
          <p:cNvPicPr/>
          <p:nvPr/>
        </p:nvPicPr>
        <p:blipFill>
          <a:blip r:embed="rId2"/>
          <a:stretch/>
        </p:blipFill>
        <p:spPr>
          <a:xfrm>
            <a:off x="380880" y="5638680"/>
            <a:ext cx="1513080" cy="6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tempimage14"/>
          <p:cNvPicPr/>
          <p:nvPr/>
        </p:nvPicPr>
        <p:blipFill>
          <a:blip r:embed="rId3"/>
          <a:stretch/>
        </p:blipFill>
        <p:spPr>
          <a:xfrm>
            <a:off x="7315200" y="380880"/>
            <a:ext cx="151272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&amp;SHcy;&amp;acy;&amp;bcy;&amp;lcy;&amp;ocy;&amp;ncy; (&amp;fcy;&amp;ocy;&amp;ncy;) &amp;pcy;&amp;rcy;&amp;iecy;&amp;zcy;&amp;iecy;&amp;ncy;&amp;tcy;&amp;acy;&amp;tscy;&amp;icy;&amp;icy; &quot;&amp;Ocy;&amp;scy;&amp;iecy;&amp;ncy;&amp;ncy;&amp;icy;&amp;jcy;&quot;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2440080" y="5472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Oval 7"/>
          <p:cNvSpPr/>
          <p:nvPr/>
        </p:nvSpPr>
        <p:spPr>
          <a:xfrm>
            <a:off x="1676520" y="0"/>
            <a:ext cx="5867280" cy="11430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орлықтың түрлері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685800" y="990720"/>
            <a:ext cx="18288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Line 9"/>
          <p:cNvSpPr/>
          <p:nvPr/>
        </p:nvSpPr>
        <p:spPr>
          <a:xfrm>
            <a:off x="373392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5867280" y="990720"/>
            <a:ext cx="1526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7086600" y="838080"/>
            <a:ext cx="14479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0" y="2133720"/>
            <a:ext cx="2133720" cy="167616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228600" y="2666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Эмоциялық зорлық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Oval 14"/>
          <p:cNvSpPr/>
          <p:nvPr/>
        </p:nvSpPr>
        <p:spPr>
          <a:xfrm>
            <a:off x="2743200" y="2438280"/>
            <a:ext cx="2133720" cy="152424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Oval 15"/>
          <p:cNvSpPr/>
          <p:nvPr/>
        </p:nvSpPr>
        <p:spPr>
          <a:xfrm>
            <a:off x="5181480" y="2514600"/>
            <a:ext cx="1981440" cy="144792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Oval 16"/>
          <p:cNvSpPr/>
          <p:nvPr/>
        </p:nvSpPr>
        <p:spPr>
          <a:xfrm>
            <a:off x="7315200" y="2057400"/>
            <a:ext cx="1828800" cy="1600200"/>
          </a:xfrm>
          <a:prstGeom prst="ellipse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2895480" y="28954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Физикалық зорлық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5334120" y="29718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Қауіп-қатер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7543800" y="236232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000000"/>
                </a:solidFill>
                <a:latin typeface="Arial"/>
              </a:rPr>
              <a:t>Балаларды анасына қарсы қолдану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380880" y="4387680"/>
            <a:ext cx="8447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Эмоциялық зорлық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ғаттау, қорлау, сөгу, өзі не басқалар арқылы қорқыту балалардың жеке өміріне қол сұғу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Физикалық зорлық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ұру, соғу, жәбірлеу, дене жарақаты, отбасы мүшелерін мас күйінде немесе сау күйінде ұруды қолданатын зорлық түрі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Қауіп-қатер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басын тастап кетемін деп қорқыту, әйелін немесе балаларын ұру, өз-өзіне қол жұмсауға итермелеу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20:10:52Z</dcterms:created>
  <dc:creator>1</dc:creator>
  <dc:description/>
  <dc:language>en-US</dc:language>
  <cp:lastModifiedBy>Гимназия</cp:lastModifiedBy>
  <dcterms:modified xsi:type="dcterms:W3CDTF">2020-12-03T11:45:17Z</dcterms:modified>
  <cp:revision>1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15000000000001024110</vt:lpwstr>
  </property>
</Properties>
</file>