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6969-B6F3-4CDF-8D88-146F9138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3B9C-60AC-43C2-88EB-6F41114F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B44-25B6-403F-BDA5-19F86769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C185-1F1A-46B7-994C-E3A9349C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43F3-55EB-45CD-AD8E-5B499479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F314-034C-4188-972F-D8CC2CB2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EC0-2CF0-45E6-983F-A94F73E7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F88-98C9-4E9D-9B03-24606127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482-3961-465B-AC96-872BF41F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C337-5E92-4D49-81C2-B1E990FC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D5C-7DCA-49B5-B54C-46293B7B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6E1-5DA9-48E5-A4E6-C2F40BD6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88E3-D479-45A7-9302-474546DE04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5760" y="891720"/>
            <a:ext cx="85168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kk-KZ" sz="3600" spc="-1" strike="noStrike">
                <a:solidFill>
                  <a:srgbClr val="ff0000"/>
                </a:solidFill>
                <a:latin typeface="Calibri"/>
              </a:rPr>
              <a:t>Жасөспірімнің ақпараттық қауіпсіздігін қамтамасыз ету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br>
              <a:rPr sz="3600"/>
            </a:br>
            <a:r>
              <a:rPr b="1" lang="kk-KZ" sz="3600" spc="-1" strike="noStrike">
                <a:solidFill>
                  <a:srgbClr val="002060"/>
                </a:solidFill>
                <a:latin typeface="Calibri"/>
              </a:rPr>
              <a:t>Интернет-тәуелділік қалыптасуының алдын алу бойынша шаралар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74760" y="2754000"/>
            <a:ext cx="1144584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2060"/>
                </a:solidFill>
                <a:latin typeface="Calibri"/>
              </a:rPr>
              <a:t>Компьютер, интернет көмекші бола алады, бір жағынан жасөспірімнің жеке кеңістігіне үлкен қауіп төндіретін ақпараттық қоқыс әкелетін жау болуы да мүмкін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Calibri"/>
              </a:rPr>
              <a:t>Ақпараттық қауіпсіздікті қамтамасыз ету </a:t>
            </a:r>
            <a:r>
              <a:rPr b="0" lang="kk-KZ" sz="2800" spc="-1" strike="noStrike">
                <a:solidFill>
                  <a:srgbClr val="ff0000"/>
                </a:solidFill>
                <a:latin typeface="Calibri"/>
              </a:rPr>
              <a:t>–</a:t>
            </a:r>
            <a:r>
              <a:rPr b="1" lang="kk-KZ" sz="2800" spc="-1" strike="noStrike">
                <a:solidFill>
                  <a:srgbClr val="ff0000"/>
                </a:solidFill>
                <a:latin typeface="Calibri"/>
              </a:rPr>
              <a:t> зиянды ақпарат, оның ішінде Интернет желісінде таралатын ақпарат алу арқылы баланың денсаулығына және оның дамуына (физикалық, психикалық, рухани және адамгершілік) зиян келтіру қаупін жоюды білдіреді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ятно 1 5"/>
          <p:cNvSpPr/>
          <p:nvPr/>
        </p:nvSpPr>
        <p:spPr>
          <a:xfrm>
            <a:off x="5638680" y="4025880"/>
            <a:ext cx="914400" cy="91440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7" descr=""/>
          <p:cNvPicPr/>
          <p:nvPr/>
        </p:nvPicPr>
        <p:blipFill>
          <a:blip r:embed="rId2"/>
          <a:stretch/>
        </p:blipFill>
        <p:spPr>
          <a:xfrm>
            <a:off x="201600" y="244440"/>
            <a:ext cx="317016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КОМПЬЮТЕРГЕ ТӘУЕЛДІЛІКТІҢ АЛДЫН АЛУ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" name="Picture 3" descr="C:\Users\user\Desktop\exclamation-mark-3084161280.png"/>
          <p:cNvPicPr/>
          <p:nvPr/>
        </p:nvPicPr>
        <p:blipFill>
          <a:blip r:embed="rId1"/>
          <a:stretch/>
        </p:blipFill>
        <p:spPr>
          <a:xfrm>
            <a:off x="95400" y="1584360"/>
            <a:ext cx="1068120" cy="1068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http://d2kym60b0ykakr.cloudfront.net/articleimages/16627-rtfm-pKEM9VIbVok43AR/exclamation-mark-3084161280.png"/>
          <p:cNvPicPr/>
          <p:nvPr/>
        </p:nvPicPr>
        <p:blipFill>
          <a:blip r:embed="rId2"/>
          <a:stretch/>
        </p:blipFill>
        <p:spPr>
          <a:xfrm>
            <a:off x="403200" y="2952720"/>
            <a:ext cx="1114560" cy="11127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1384200" y="1731960"/>
            <a:ext cx="5302440" cy="1080360"/>
          </a:xfrm>
          <a:prstGeom prst="rect">
            <a:avLst/>
          </a:prstGeom>
          <a:gradFill rotWithShape="0">
            <a:gsLst>
              <a:gs pos="0">
                <a:srgbClr val="fff2cc"/>
              </a:gs>
              <a:gs pos="100000">
                <a:srgbClr val="cee1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Жасөспірімнің әр түрлі жұмысбастылығын қамтамасыз етіңіз (үйірмелер, секциялар, қызығушылықтардың кең таралған спектрін құпта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1697040" y="3132000"/>
            <a:ext cx="4748040" cy="642600"/>
          </a:xfrm>
          <a:prstGeom prst="rect">
            <a:avLst/>
          </a:prstGeom>
          <a:gradFill rotWithShape="0">
            <a:gsLst>
              <a:gs pos="0">
                <a:srgbClr val="fff2cc"/>
              </a:gs>
              <a:gs pos="100000">
                <a:srgbClr val="cee1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Ерте жастан бастап үйдегі міндеттерге баулыңы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5584680" y="5562720"/>
            <a:ext cx="6423120" cy="1191240"/>
          </a:xfrm>
          <a:prstGeom prst="rect">
            <a:avLst/>
          </a:prstGeom>
          <a:gradFill rotWithShape="0">
            <a:gsLst>
              <a:gs pos="0">
                <a:srgbClr val="fff2cc"/>
              </a:gs>
              <a:gs pos="100000">
                <a:srgbClr val="cee1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Күн сайын балаңызбен сөйлесіңіз. Оның өміріндегі оқиғалардан, қуаныштары мен күйініштерінен, проблемалары мен жетістіктерінен хабардар болыңы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8881920" y="2381400"/>
            <a:ext cx="3125880" cy="1739880"/>
          </a:xfrm>
          <a:prstGeom prst="rect">
            <a:avLst/>
          </a:prstGeom>
          <a:gradFill rotWithShape="0">
            <a:gsLst>
              <a:gs pos="0">
                <a:srgbClr val="fff2cc"/>
              </a:gs>
              <a:gs pos="100000">
                <a:srgbClr val="cee1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Барлық қолжетімді құралдар арқылы оның ой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-</a:t>
            </a:r>
            <a:r>
              <a:rPr b="1" lang="kk-KZ" sz="1800" spc="-1" strike="noStrike">
                <a:solidFill>
                  <a:srgbClr val="002060"/>
                </a:solidFill>
                <a:latin typeface="Arial"/>
                <a:ea typeface="Arial"/>
              </a:rPr>
              <a:t>өрісін кеңейтіңіз (бірлескен саяхаттар, көрме, мұражай, театрларға бару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2846520" y="4270320"/>
            <a:ext cx="5151240" cy="1080360"/>
          </a:xfrm>
          <a:prstGeom prst="rect">
            <a:avLst/>
          </a:prstGeom>
          <a:gradFill rotWithShape="0">
            <a:gsLst>
              <a:gs pos="0">
                <a:srgbClr val="fff2cc"/>
              </a:gs>
              <a:gs pos="100000">
                <a:srgbClr val="cee1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індетті түрде жасөспіріснің шынайы өміріндегі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–</a:t>
            </a:r>
            <a:r>
              <a:rPr b="1" lang="kk-KZ" sz="1800" spc="-1" strike="noStrike">
                <a:solidFill>
                  <a:srgbClr val="002060"/>
                </a:solidFill>
                <a:latin typeface="Arial"/>
                <a:ea typeface="Arial"/>
              </a:rPr>
              <a:t> оқудағы, спорттағы, шығармашылықтағы кез келген жетістіктері үшін жігерлендіріп отырыңыз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C:\Users\user\Desktop\exclamation-mark-3084161280.png"/>
          <p:cNvPicPr/>
          <p:nvPr/>
        </p:nvPicPr>
        <p:blipFill>
          <a:blip r:embed="rId3"/>
          <a:stretch/>
        </p:blipFill>
        <p:spPr>
          <a:xfrm>
            <a:off x="2441520" y="5562720"/>
            <a:ext cx="1069920" cy="1068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user\Desktop\exclamation-mark-3084161280.png"/>
          <p:cNvPicPr/>
          <p:nvPr/>
        </p:nvPicPr>
        <p:blipFill>
          <a:blip r:embed="rId4"/>
          <a:stretch/>
        </p:blipFill>
        <p:spPr>
          <a:xfrm>
            <a:off x="7608960" y="2779560"/>
            <a:ext cx="1068480" cy="106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user\Desktop\exclamation-mark-3084161280.png"/>
          <p:cNvPicPr/>
          <p:nvPr/>
        </p:nvPicPr>
        <p:blipFill>
          <a:blip r:embed="rId5"/>
          <a:stretch/>
        </p:blipFill>
        <p:spPr>
          <a:xfrm>
            <a:off x="1374840" y="4200480"/>
            <a:ext cx="106848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10719000" cy="171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КОМПЬЮТЕРГЕ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ТӘУЕЛДІЛІКТІҢ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ЛДЫН АЛУ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6" name="Picture 3" descr="C:\Users\user\Desktop\exclamation-mark-3084161280.png"/>
          <p:cNvPicPr/>
          <p:nvPr/>
        </p:nvPicPr>
        <p:blipFill>
          <a:blip r:embed="rId1"/>
          <a:stretch/>
        </p:blipFill>
        <p:spPr>
          <a:xfrm>
            <a:off x="1519200" y="2075040"/>
            <a:ext cx="1069920" cy="1068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user\Desktop\exclamation-mark-3084161280.png"/>
          <p:cNvPicPr/>
          <p:nvPr/>
        </p:nvPicPr>
        <p:blipFill>
          <a:blip r:embed="rId2"/>
          <a:stretch/>
        </p:blipFill>
        <p:spPr>
          <a:xfrm>
            <a:off x="5675400" y="1006560"/>
            <a:ext cx="1068480" cy="1068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user\Desktop\exclamation-mark-3084161280.png"/>
          <p:cNvPicPr/>
          <p:nvPr/>
        </p:nvPicPr>
        <p:blipFill>
          <a:blip r:embed="rId3"/>
          <a:stretch/>
        </p:blipFill>
        <p:spPr>
          <a:xfrm>
            <a:off x="10339560" y="765000"/>
            <a:ext cx="1068120" cy="10670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"/>
          <p:cNvSpPr/>
          <p:nvPr/>
        </p:nvSpPr>
        <p:spPr>
          <a:xfrm>
            <a:off x="0" y="3143160"/>
            <a:ext cx="4632480" cy="22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300" spc="-1" strike="noStrike">
                <a:solidFill>
                  <a:srgbClr val="002060"/>
                </a:solidFill>
                <a:latin typeface="Arial"/>
                <a:ea typeface="Arial"/>
              </a:rPr>
              <a:t>Балаңызды компьютерде ұзақ уақыт отырудың оның денсаулығына келтіретін зияндарымен таныстырыңыз (көру қабілетіне зиян, омыртқада проблемалардың пайда болуы)</a:t>
            </a:r>
            <a:r>
              <a:rPr b="1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4686480" y="2208240"/>
            <a:ext cx="30477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300" spc="-1" strike="noStrike">
                <a:solidFill>
                  <a:srgbClr val="002060"/>
                </a:solidFill>
                <a:latin typeface="Arial"/>
                <a:ea typeface="Arial"/>
              </a:rPr>
              <a:t>Жасөспірім пайдаланатын компьютерлік ойындарға, бағдарламаларға цензура жүргізіңіз</a:t>
            </a:r>
            <a:r>
              <a:rPr b="1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9059760" y="1967040"/>
            <a:ext cx="3048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2060"/>
                </a:solidFill>
                <a:latin typeface="Arial"/>
                <a:ea typeface="Arial"/>
              </a:rPr>
              <a:t>Жасөспірімге Интернетке бақылаусыз кіруге рұқсат бермеңіз. Онымен бірге белгілі бір сайттарға кіруге тыйым салу жолдарын ойластырыңыз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6711840" y="4749840"/>
            <a:ext cx="3048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2060"/>
                </a:solidFill>
                <a:latin typeface="Arial"/>
                <a:ea typeface="Arial"/>
              </a:rPr>
              <a:t>Компьютерді танымдық және білім алу мақсаттарында пайдаланыңыз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8"/>
          <p:cNvSpPr/>
          <p:nvPr/>
        </p:nvSpPr>
        <p:spPr>
          <a:xfrm>
            <a:off x="2316240" y="5599080"/>
            <a:ext cx="474012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2060"/>
                </a:solidFill>
                <a:latin typeface="Arial"/>
                <a:ea typeface="Arial"/>
              </a:rPr>
              <a:t>Жасөспірім үшін белгілеген ережелеріңізді өзіңіз бұзбаңыз</a:t>
            </a:r>
            <a:r>
              <a:rPr b="1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C:\Users\user\Desktop\exclamation-mark-3084161280.png"/>
          <p:cNvPicPr/>
          <p:nvPr/>
        </p:nvPicPr>
        <p:blipFill>
          <a:blip r:embed="rId4"/>
          <a:stretch/>
        </p:blipFill>
        <p:spPr>
          <a:xfrm>
            <a:off x="4487760" y="4599000"/>
            <a:ext cx="1068480" cy="1068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user\Desktop\exclamation-mark-3084161280.png"/>
          <p:cNvPicPr/>
          <p:nvPr/>
        </p:nvPicPr>
        <p:blipFill>
          <a:blip r:embed="rId5"/>
          <a:stretch/>
        </p:blipFill>
        <p:spPr>
          <a:xfrm>
            <a:off x="7701120" y="3622680"/>
            <a:ext cx="106992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cc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87280" y="371520"/>
            <a:ext cx="8016840" cy="40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Құрметті ата-аналар! </a:t>
            </a:r>
            <a:br>
              <a:rPr sz="4400"/>
            </a:br>
            <a:br>
              <a:rPr sz="8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іздерге және балаларыңызға барлық істеріңізде табыс тілейміз!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қытты болыңыздар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7" name="Рисунок 2" descr=""/>
          <p:cNvPicPr/>
          <p:nvPr/>
        </p:nvPicPr>
        <p:blipFill>
          <a:blip r:embed="rId1"/>
          <a:stretch/>
        </p:blipFill>
        <p:spPr>
          <a:xfrm>
            <a:off x="3602160" y="3882960"/>
            <a:ext cx="49878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НЕТ БАЛАЛАР ҮШІН НЕСІМЕН ҚАУІПТІ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ҚАУІП ТҮРЛЕРІ 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Знак запрета 10"/>
          <p:cNvSpPr/>
          <p:nvPr/>
        </p:nvSpPr>
        <p:spPr>
          <a:xfrm>
            <a:off x="3875040" y="2104920"/>
            <a:ext cx="3694320" cy="3822840"/>
          </a:xfrm>
          <a:custGeom>
            <a:avLst/>
            <a:gdLst/>
            <a:ahLst/>
            <a:rect l="l" t="t" r="r" b="b"/>
            <a:pathLst>
              <a:path w="3694112" h="3822700">
                <a:moveTo>
                  <a:pt x="0" y="1911350"/>
                </a:moveTo>
                <a:cubicBezTo>
                  <a:pt x="0" y="855741"/>
                  <a:pt x="826955" y="0"/>
                  <a:pt x="1847056" y="0"/>
                </a:cubicBezTo>
                <a:cubicBezTo>
                  <a:pt x="2867157" y="0"/>
                  <a:pt x="3694112" y="855741"/>
                  <a:pt x="3694112" y="1911350"/>
                </a:cubicBezTo>
                <a:cubicBezTo>
                  <a:pt x="3694112" y="2966959"/>
                  <a:pt x="2867157" y="3822700"/>
                  <a:pt x="1847056" y="3822700"/>
                </a:cubicBezTo>
                <a:cubicBezTo>
                  <a:pt x="826955" y="3822700"/>
                  <a:pt x="0" y="2966959"/>
                  <a:pt x="0" y="1911350"/>
                </a:cubicBezTo>
                <a:close/>
                <a:moveTo>
                  <a:pt x="2862642" y="2490778"/>
                </a:moveTo>
                <a:cubicBezTo>
                  <a:pt x="3096400" y="2034152"/>
                  <a:pt x="3030553" y="1471330"/>
                  <a:pt x="2698579" y="1088470"/>
                </a:cubicBezTo>
                <a:cubicBezTo>
                  <a:pt x="2337805" y="672395"/>
                  <a:pt x="1753710" y="572057"/>
                  <a:pt x="1286592" y="845913"/>
                </a:cubicBezTo>
                <a:lnTo>
                  <a:pt x="2862642" y="2490778"/>
                </a:lnTo>
                <a:close/>
                <a:moveTo>
                  <a:pt x="831470" y="1331922"/>
                </a:moveTo>
                <a:cubicBezTo>
                  <a:pt x="597712" y="1788548"/>
                  <a:pt x="663559" y="2351370"/>
                  <a:pt x="995533" y="2734230"/>
                </a:cubicBezTo>
                <a:cubicBezTo>
                  <a:pt x="1356307" y="3150305"/>
                  <a:pt x="1940402" y="3250643"/>
                  <a:pt x="2407520" y="2976787"/>
                </a:cubicBezTo>
                <a:lnTo>
                  <a:pt x="831470" y="1331922"/>
                </a:lnTo>
                <a:close/>
              </a:path>
            </a:pathLst>
          </a:cu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трелка вправо с вырезом 14"/>
          <p:cNvSpPr/>
          <p:nvPr/>
        </p:nvSpPr>
        <p:spPr>
          <a:xfrm>
            <a:off x="235080" y="1704960"/>
            <a:ext cx="3375000" cy="1393920"/>
          </a:xfrm>
          <a:custGeom>
            <a:avLst/>
            <a:gdLst>
              <a:gd name="textAreaLeft" fmla="*/ 348120 w 3375000"/>
              <a:gd name="textAreaRight" fmla="*/ 3026880 w 3375000"/>
              <a:gd name="textAreaTop" fmla="*/ 348480 h 1393920"/>
              <a:gd name="textAreaBottom" fmla="*/ 1045440 h 1393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40" y="5400"/>
                </a:lnTo>
                <a:lnTo>
                  <a:pt x="17140" y="0"/>
                </a:lnTo>
                <a:lnTo>
                  <a:pt x="21600" y="10800"/>
                </a:lnTo>
                <a:lnTo>
                  <a:pt x="17140" y="21600"/>
                </a:lnTo>
                <a:lnTo>
                  <a:pt x="17140" y="16200"/>
                </a:lnTo>
                <a:lnTo>
                  <a:pt x="0" y="16200"/>
                </a:lnTo>
                <a:lnTo>
                  <a:pt x="223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нтернетте алаяқтар кө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трелка вправо с вырезом 15"/>
          <p:cNvSpPr/>
          <p:nvPr/>
        </p:nvSpPr>
        <p:spPr>
          <a:xfrm>
            <a:off x="422280" y="3384720"/>
            <a:ext cx="3376440" cy="1338120"/>
          </a:xfrm>
          <a:custGeom>
            <a:avLst/>
            <a:gdLst>
              <a:gd name="textAreaLeft" fmla="*/ 334440 w 3376440"/>
              <a:gd name="textAreaRight" fmla="*/ 3042000 w 3376440"/>
              <a:gd name="textAreaTop" fmla="*/ 334440 h 1338120"/>
              <a:gd name="textAreaBottom" fmla="*/ 1003680 h 1338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320" y="5400"/>
                </a:lnTo>
                <a:lnTo>
                  <a:pt x="17320" y="0"/>
                </a:lnTo>
                <a:lnTo>
                  <a:pt x="21600" y="10800"/>
                </a:lnTo>
                <a:lnTo>
                  <a:pt x="17320" y="21600"/>
                </a:lnTo>
                <a:lnTo>
                  <a:pt x="17320" y="16200"/>
                </a:lnTo>
                <a:lnTo>
                  <a:pt x="0" y="16200"/>
                </a:lnTo>
                <a:lnTo>
                  <a:pt x="214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Зиянды тақырып сайтт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право с вырезом 16"/>
          <p:cNvSpPr/>
          <p:nvPr/>
        </p:nvSpPr>
        <p:spPr>
          <a:xfrm>
            <a:off x="627120" y="5200560"/>
            <a:ext cx="3376440" cy="1246320"/>
          </a:xfrm>
          <a:custGeom>
            <a:avLst/>
            <a:gdLst>
              <a:gd name="textAreaLeft" fmla="*/ 311400 w 3376440"/>
              <a:gd name="textAreaRight" fmla="*/ 3065040 w 3376440"/>
              <a:gd name="textAreaTop" fmla="*/ 311400 h 1246320"/>
              <a:gd name="textAreaBottom" fmla="*/ 934920 h 124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14" y="5400"/>
                </a:lnTo>
                <a:lnTo>
                  <a:pt x="17614" y="0"/>
                </a:lnTo>
                <a:lnTo>
                  <a:pt x="21600" y="10800"/>
                </a:lnTo>
                <a:lnTo>
                  <a:pt x="17614" y="21600"/>
                </a:lnTo>
                <a:lnTo>
                  <a:pt x="17614" y="16200"/>
                </a:lnTo>
                <a:lnTo>
                  <a:pt x="0" y="16200"/>
                </a:lnTo>
                <a:lnTo>
                  <a:pt x="199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Шынайы өмірде алда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лево 18"/>
          <p:cNvSpPr/>
          <p:nvPr/>
        </p:nvSpPr>
        <p:spPr>
          <a:xfrm>
            <a:off x="7883640" y="2041560"/>
            <a:ext cx="2933640" cy="1057320"/>
          </a:xfrm>
          <a:prstGeom prst="leftArrow">
            <a:avLst>
              <a:gd name="adj1" fmla="val 50000"/>
              <a:gd name="adj2" fmla="val 49994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Құмар ойынд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лево 21"/>
          <p:cNvSpPr/>
          <p:nvPr/>
        </p:nvSpPr>
        <p:spPr>
          <a:xfrm>
            <a:off x="7742160" y="3265560"/>
            <a:ext cx="4275360" cy="18129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2060"/>
                </a:solidFill>
                <a:latin typeface="Calibri"/>
              </a:rPr>
              <a:t>Тыйым салынған заттар мен ұғымдар туралы ақпарат тарататын сайтт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лево 22"/>
          <p:cNvSpPr/>
          <p:nvPr/>
        </p:nvSpPr>
        <p:spPr>
          <a:xfrm>
            <a:off x="8396280" y="5245200"/>
            <a:ext cx="2957400" cy="111276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румдар, әлеужелілер, ойынд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0000"/>
                </a:solidFill>
                <a:latin typeface="Calibri"/>
              </a:rPr>
              <a:t>Жасөспірімдер - қауіп тобында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49720" y="1547640"/>
            <a:ext cx="8942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2060"/>
                </a:solidFill>
                <a:latin typeface="Calibri"/>
              </a:rPr>
              <a:t>Компьютерлік тәуелділік 6 жасар балаларда анықталады. Алайда ол </a:t>
            </a:r>
            <a:r>
              <a:rPr b="1" lang="kk-KZ" sz="2800" spc="-1" strike="noStrike">
                <a:solidFill>
                  <a:srgbClr val="ff0000"/>
                </a:solidFill>
                <a:latin typeface="Calibri"/>
              </a:rPr>
              <a:t>12-15</a:t>
            </a:r>
            <a:r>
              <a:rPr b="1" lang="kk-KZ" sz="2800" spc="-1" strike="noStrike">
                <a:solidFill>
                  <a:srgbClr val="002060"/>
                </a:solidFill>
                <a:latin typeface="Calibri"/>
              </a:rPr>
              <a:t> жасар жасөспірімдерде аса жиі пайда болады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cc"/>
                </a:solidFill>
                <a:latin typeface="Calibri"/>
              </a:rPr>
              <a:t>Жасөспірімдік шақ – бұл өмірлік мақсаттар қалыптастыру, моральдық-адамгершілік бағдарлар жасау, әлеуметтік байланыстарды кеңейту кезеңі. Компьютерге тәуелді жасөспірім өзінің қарым-қатынас шеңберін интернетпен шектейді. Салдарынан – өмірлік тәжірибенің болмауы, маңызды мәселелерді шешудегі бойкүйездік, әлеуметтік бейімделудегі қиындықтар</a:t>
            </a:r>
            <a:r>
              <a:rPr b="1" lang="ru-RU" sz="2800" spc="-1" strike="noStrike">
                <a:solidFill>
                  <a:srgbClr val="091eb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85680" y="2262240"/>
            <a:ext cx="31640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2520" y="285840"/>
            <a:ext cx="11577600" cy="14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  <a:ea typeface="Times New Roman"/>
              </a:rPr>
              <a:t>ӨЗ БАЛАҢДЫ ҚАЛАЙ ҚОРҒАУ ҚАЖЕТ?</a:t>
            </a:r>
            <a:br>
              <a:rPr sz="4800"/>
            </a:br>
            <a:r>
              <a:rPr b="1" lang="kk-KZ" sz="3100" spc="-1" strike="noStrike">
                <a:solidFill>
                  <a:srgbClr val="002060"/>
                </a:solidFill>
                <a:latin typeface="Calibri"/>
              </a:rPr>
              <a:t>БҮКІЛӘЛЕМДІК ТОРДЫҢ ЖАҒЫМСЫЗ ӘСЕРІНЕН ҚАЛАЙ ҚҰТҚАРУҒА БОЛАДЫ</a:t>
            </a:r>
            <a:r>
              <a:rPr b="1" lang="ru-RU" sz="3100" spc="-1" strike="noStrike">
                <a:solidFill>
                  <a:srgbClr val="002060"/>
                </a:solidFill>
                <a:latin typeface="Calibri"/>
                <a:ea typeface="Times New Roman"/>
              </a:rPr>
              <a:t>?</a:t>
            </a: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2520" y="1814040"/>
            <a:ext cx="112586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та-ана </a:t>
            </a: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ТІ ЕРЕЖЕНІ </a:t>
            </a:r>
            <a:r>
              <a:rPr b="1" lang="kk-K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ұқият орындауы қажет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ІРІНШІ ЕРЕЖ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лаңыздың Интернетте немен айналысатынынан хабардар болыңыз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ІНШІ ЕРЕЖЕ. </a:t>
            </a:r>
            <a:br>
              <a:rPr sz="4000"/>
            </a:br>
            <a:r>
              <a:rPr b="1" lang="kk-K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лалардан қандай чаттарға, топтарға, хабарландыру парақшаларына кіретінін және кіммен араласатынын сұрап біліңіз. Қадағаланатын чаттардағы қарым-қатынасын құптаңыз (спорт, музыка сабақтары бойынша сыныптастарымен, достарымен және т.б.) және балалардың тек ортақ чат терезелерінде ғана араласуын талап етіңіз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Двойная стрелка влево/вправо 3"/>
          <p:cNvSpPr/>
          <p:nvPr/>
        </p:nvSpPr>
        <p:spPr>
          <a:xfrm>
            <a:off x="2158920" y="241308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Двойная стрелка влево/вправо 4"/>
          <p:cNvSpPr/>
          <p:nvPr/>
        </p:nvSpPr>
        <p:spPr>
          <a:xfrm>
            <a:off x="2158920" y="399096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2"/>
          <a:stretch/>
        </p:blipFill>
        <p:spPr>
          <a:xfrm>
            <a:off x="212760" y="-55440"/>
            <a:ext cx="11850480" cy="2639880"/>
          </a:xfrm>
          <a:prstGeom prst="rect">
            <a:avLst/>
          </a:prstGeom>
          <a:ln w="0">
            <a:noFill/>
          </a:ln>
        </p:spPr>
      </p:pic>
      <p:pic>
        <p:nvPicPr>
          <p:cNvPr id="61" name="Объект 4" descr=""/>
          <p:cNvPicPr/>
          <p:nvPr/>
        </p:nvPicPr>
        <p:blipFill>
          <a:blip r:embed="rId3"/>
          <a:stretch/>
        </p:blipFill>
        <p:spPr>
          <a:xfrm>
            <a:off x="390600" y="2401920"/>
            <a:ext cx="11837880" cy="4456080"/>
          </a:xfrm>
          <a:prstGeom prst="rect">
            <a:avLst/>
          </a:prstGeom>
          <a:ln w="0">
            <a:noFill/>
          </a:ln>
        </p:spPr>
      </p:pic>
      <p:sp>
        <p:nvSpPr>
          <p:cNvPr id="62" name="Двойная стрелка влево/вправо 9"/>
          <p:cNvSpPr/>
          <p:nvPr/>
        </p:nvSpPr>
        <p:spPr>
          <a:xfrm>
            <a:off x="1619280" y="317520"/>
            <a:ext cx="1216080" cy="48564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Двойная стрелка влево/вправо 10"/>
          <p:cNvSpPr/>
          <p:nvPr/>
        </p:nvSpPr>
        <p:spPr>
          <a:xfrm>
            <a:off x="1619280" y="2627280"/>
            <a:ext cx="1216080" cy="48564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3090960" y="4498920"/>
            <a:ext cx="8974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СІНШІ ЕРЕЖЕ. </a:t>
            </a:r>
            <a:br>
              <a:rPr sz="4000"/>
            </a:br>
            <a:r>
              <a:rPr b="1" lang="kk-KZ" sz="2000" spc="-1" strike="noStrike">
                <a:solidFill>
                  <a:srgbClr val="548235"/>
                </a:solidFill>
                <a:latin typeface="Times New Roman"/>
                <a:ea typeface="Times New Roman"/>
              </a:rPr>
              <a:t>Балаңызға Интернетте кей адамдардың өтірік айтуы және өзі көрсеткен адам болып шықпауы мүмкін екенін түсінуге көмектесіңіз. Сіздің балаңыз ешқашан өз бетінше, ересектерсіз шынайы өмірде интернет-достармен кездеспеуі керек</a:t>
            </a:r>
            <a:r>
              <a:rPr b="1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Двойная стрелка влево/вправо 11"/>
          <p:cNvSpPr/>
          <p:nvPr/>
        </p:nvSpPr>
        <p:spPr>
          <a:xfrm>
            <a:off x="1539720" y="4589640"/>
            <a:ext cx="1216080" cy="483840"/>
          </a:xfrm>
          <a:prstGeom prst="leftRightArrow">
            <a:avLst>
              <a:gd name="adj1" fmla="val 50000"/>
              <a:gd name="adj2" fmla="val 50035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720" y="155520"/>
            <a:ext cx="11876040" cy="21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kk-KZ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kk-KZ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ТЫНШЫ ЕРЕЖЕ</a:t>
            </a: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br>
              <a:rPr sz="4300"/>
            </a:b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kk-KZ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Балаларыңызды Интернетте біреу ренжіткен немесе агрессивті сөздерге, кінәлауға, балағаттауға тап болған жағдайда, оларды дұрыс әрекет етуге үйретіңіз. Оларға бұндай жағдайларды Сізге айтуы тиіс екенін және Сіз міндетті түрде көмектесетініңізді айтыңыз</a:t>
            </a: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862160" y="2382480"/>
            <a:ext cx="694692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ТІНШІ ЕРЕЖЕ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іздің үй компьютеріңізде сүзгілеу құралдарының орнатылғанына және дұрыс күйге келтірілгеніне көз жеткізіңіз. Бұл жерде Сізге интернет-қауіпсіздік саласындағы маман көмектеседі. Қажетсіз контентті бұғаттауға мүмкіндік беретін бақылау құралдары бар           (мысалы, MNS Premium’s Parental Controls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6" descr=""/>
          <p:cNvPicPr/>
          <p:nvPr/>
        </p:nvPicPr>
        <p:blipFill>
          <a:blip r:embed="rId2"/>
          <a:stretch/>
        </p:blipFill>
        <p:spPr>
          <a:xfrm>
            <a:off x="285840" y="3181320"/>
            <a:ext cx="4127400" cy="3011400"/>
          </a:xfrm>
          <a:prstGeom prst="rect">
            <a:avLst/>
          </a:prstGeom>
          <a:ln w="0">
            <a:noFill/>
          </a:ln>
        </p:spPr>
      </p:pic>
      <p:sp>
        <p:nvSpPr>
          <p:cNvPr id="69" name="Двойная стрелка влево/вправо 10"/>
          <p:cNvSpPr/>
          <p:nvPr/>
        </p:nvSpPr>
        <p:spPr>
          <a:xfrm>
            <a:off x="2743200" y="27468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Двойная стрелка влево/вправо 11"/>
          <p:cNvSpPr/>
          <p:nvPr/>
        </p:nvSpPr>
        <p:spPr>
          <a:xfrm>
            <a:off x="3087720" y="2470320"/>
            <a:ext cx="1216080" cy="48564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8640" y="175680"/>
            <a:ext cx="11642760" cy="2187720"/>
          </a:xfrm>
          <a:prstGeom prst="rect">
            <a:avLst/>
          </a:prstGeom>
          <a:gradFill rotWithShape="0">
            <a:gsLst>
              <a:gs pos="0">
                <a:srgbClr val="fff2cc"/>
              </a:gs>
              <a:gs pos="100000">
                <a:srgbClr val="cee1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ҚПАРАТТЫҚ ҚАУІПСІЗДІКТІ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ҚАМТАМАСЫЗ ЕТУДЕН БАСҚ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ТА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</a:t>
            </a:r>
            <a:r>
              <a:rPr b="1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АР ӨЗ БАЛАСЫНДА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НЕТ-ТӘУЕЛДІЛІК ҚАЛЫПТАСУЫНЫҢ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ДЫН АЛУЫ ТИІС.</a:t>
            </a:r>
            <a:br>
              <a:rPr sz="2400"/>
            </a:br>
            <a:br>
              <a:rPr sz="2400"/>
            </a:br>
            <a:r>
              <a:rPr b="1" lang="kk-K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ЬЮТЕР ЖАУҒА АЙНАЛМАС ҮШІН, ӘРЕКЕТ ЕТУІҢІЗ КЕРЕК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88640" y="2130480"/>
            <a:ext cx="11642760" cy="4495680"/>
          </a:xfrm>
          <a:prstGeom prst="rect">
            <a:avLst/>
          </a:prstGeom>
          <a:gradFill rotWithShape="0">
            <a:gsLst>
              <a:gs pos="0">
                <a:srgbClr val="fff2cc"/>
              </a:gs>
              <a:gs pos="100000">
                <a:srgbClr val="cee1f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ІҢІЗДЕ БОЛСЫН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Әсіресе компьютерге </a:t>
            </a:r>
            <a:r>
              <a:rPr b="1" i="1" lang="kk-K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р балалар</a:t>
            </a:r>
            <a:r>
              <a:rPr b="1" i="1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ақын болады: бір интернетке тәуелді қыз балаға 10 ер баладан келеді. Бұл ер балалардың мектептегі сәтсіздіктеріне көбірек уайымға берілетіндігімен байланысты, және қыз балаларға арналған компьютер ойындары да әлдеқайда аз ойлап табылған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СИХОЛОГТАР АЙТАД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өбінесе, үйде сирек болатын жұмысшыл ата-аналардың балалары желіде жоғалады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11293560" cy="15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ланың компьютерге әуестенуі оның психикалық және физикалық денсаулығы, тұлғалық дамуы және әлеуметтенуі үшін қауіпті бола бастағандығының белгілері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Picture 2" descr="C:\Users\user\Desktop\500_F_85811152_yKYHADYK4qad5bmLn4sB1gfuvVS7h8qW.jpg"/>
          <p:cNvPicPr/>
          <p:nvPr/>
        </p:nvPicPr>
        <p:blipFill>
          <a:blip r:embed="rId1"/>
          <a:srcRect l="11441" t="4557" r="11333" b="5525"/>
          <a:stretch/>
        </p:blipFill>
        <p:spPr>
          <a:xfrm>
            <a:off x="304920" y="2590920"/>
            <a:ext cx="3481200" cy="2708280"/>
          </a:xfrm>
          <a:prstGeom prst="rect">
            <a:avLst/>
          </a:prstGeom>
          <a:ln w="0">
            <a:noFill/>
          </a:ln>
        </p:spPr>
      </p:pic>
      <p:pic>
        <p:nvPicPr>
          <p:cNvPr id="75" name="Схема 1" descr=""/>
          <p:cNvPicPr/>
          <p:nvPr/>
        </p:nvPicPr>
        <p:blipFill>
          <a:blip r:embed="rId2"/>
          <a:stretch/>
        </p:blipFill>
        <p:spPr>
          <a:xfrm>
            <a:off x="4054320" y="1566720"/>
            <a:ext cx="7820280" cy="5761080"/>
          </a:xfrm>
          <a:prstGeom prst="rect">
            <a:avLst/>
          </a:prstGeom>
          <a:ln w="0">
            <a:noFill/>
          </a:ln>
        </p:spPr>
      </p:pic>
      <p:sp>
        <p:nvSpPr>
          <p:cNvPr id="76" name="Стрелка вправо 3"/>
          <p:cNvSpPr/>
          <p:nvPr/>
        </p:nvSpPr>
        <p:spPr>
          <a:xfrm>
            <a:off x="4098960" y="4452840"/>
            <a:ext cx="826920" cy="34308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право 6"/>
          <p:cNvSpPr/>
          <p:nvPr/>
        </p:nvSpPr>
        <p:spPr>
          <a:xfrm>
            <a:off x="3324240" y="2259000"/>
            <a:ext cx="771480" cy="343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право 7"/>
          <p:cNvSpPr/>
          <p:nvPr/>
        </p:nvSpPr>
        <p:spPr>
          <a:xfrm>
            <a:off x="5013360" y="6167520"/>
            <a:ext cx="665280" cy="3445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право 8"/>
          <p:cNvSpPr/>
          <p:nvPr/>
        </p:nvSpPr>
        <p:spPr>
          <a:xfrm>
            <a:off x="6970680" y="3003480"/>
            <a:ext cx="669960" cy="34452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право 9"/>
          <p:cNvSpPr/>
          <p:nvPr/>
        </p:nvSpPr>
        <p:spPr>
          <a:xfrm>
            <a:off x="7659720" y="4946760"/>
            <a:ext cx="622440" cy="3445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80920" y="132840"/>
            <a:ext cx="11050560" cy="12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ЬЮТЕРГЕ ТӘУЕЛДІЛІКТІҢ СЕБЕПТЕРІ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2" name="Схема 4" descr=""/>
          <p:cNvPicPr/>
          <p:nvPr/>
        </p:nvPicPr>
        <p:blipFill>
          <a:blip r:embed="rId1"/>
          <a:stretch/>
        </p:blipFill>
        <p:spPr>
          <a:xfrm>
            <a:off x="139680" y="719280"/>
            <a:ext cx="11661840" cy="6151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user\Desktop\child abuse 2.jpg"/>
          <p:cNvPicPr/>
          <p:nvPr/>
        </p:nvPicPr>
        <p:blipFill>
          <a:blip r:embed="rId2"/>
          <a:stretch/>
        </p:blipFill>
        <p:spPr>
          <a:xfrm>
            <a:off x="4145040" y="2603520"/>
            <a:ext cx="26766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3T05:24:18Z</dcterms:created>
  <dc:creator>Наталья</dc:creator>
  <dc:description/>
  <dc:language>en-US</dc:language>
  <cp:lastModifiedBy>28</cp:lastModifiedBy>
  <cp:lastPrinted>2018-06-09T17:57:38Z</cp:lastPrinted>
  <dcterms:modified xsi:type="dcterms:W3CDTF">2019-04-05T10:59:43Z</dcterms:modified>
  <cp:revision>479</cp:revision>
  <dc:subject/>
  <dc:title>Презентация PowerPoint</dc:title>
</cp:coreProperties>
</file>