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EBA-1C46-4A63-BEDC-699CD895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018-CC24-4DDE-8C98-75FFB232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71A-7044-4FDB-999A-AB6288BE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54B-7B1C-4FD8-9B30-611BF475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865-4435-4F37-9911-33E1C8B6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738-3DA6-422E-8BF1-4CAD55C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1D1-4D69-45D8-BD29-F7A6EA07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FF0-1B29-4B8B-8A32-6D249B15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520-A35D-4D1A-9E7C-67537B4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FCE-D817-4D17-A68B-E87B201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5C5-1F83-4E72-8342-F0606B5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135-964F-45E9-9F3E-BB1AA24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0b4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B4D7-F2F8-4AEE-A1EE-B1137F511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75240" y="902880"/>
            <a:ext cx="8516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kk-KZ" sz="3600" spc="-1" strike="noStrike">
                <a:solidFill>
                  <a:srgbClr val="ff0000"/>
                </a:solidFill>
                <a:latin typeface="Calibri"/>
              </a:rPr>
              <a:t>Жасөспірімнің ақпараттық қауіпсіздігін қамтамасыз ету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kk-KZ" sz="3600" spc="-1" strike="noStrike">
                <a:solidFill>
                  <a:srgbClr val="002060"/>
                </a:solidFill>
                <a:latin typeface="Calibri"/>
              </a:rPr>
              <a:t>Интернет-тәуелділік қалыптасуының алдын алу бойынша шаралар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4760" y="2754000"/>
            <a:ext cx="11445840" cy="401004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Компьютер, интернет көмекші бола алады, бір жағынан жасөспірімнің жеке кеңістігіне үлкен қауіп төндіретін ақпараттық қоқыс әкелетін жау болуы да мүмкін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Calibri"/>
              </a:rPr>
              <a:t>Ақпараттық қауіпсіздікті қамтамасыз ету </a:t>
            </a:r>
            <a:r>
              <a:rPr b="0" lang="kk-KZ" sz="28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kk-KZ" sz="2800" spc="-1" strike="noStrike">
                <a:solidFill>
                  <a:srgbClr val="ff0000"/>
                </a:solidFill>
                <a:latin typeface="Calibri"/>
              </a:rPr>
              <a:t> зиянды ақпарат, оның ішінде Интернет желісінде таралатын ақпарат алу арқылы баланың денсаулығына және оның дамуына (физикалық, психикалық, рухани және адамгершілік) зиян келтіру қаупін жоюды білдіреді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ятно 1 5"/>
          <p:cNvSpPr/>
          <p:nvPr/>
        </p:nvSpPr>
        <p:spPr>
          <a:xfrm>
            <a:off x="4633920" y="385920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274680" y="360360"/>
            <a:ext cx="3340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719000" cy="17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 Light"/>
              </a:rPr>
              <a:t>КОМПЬЮТЕРГ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 Light"/>
              </a:rPr>
              <a:t>ТӘУЕЛДІЛІКТІҢ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 Light"/>
              </a:rPr>
              <a:t>АЛДЫН АЛУ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Picture 3" descr="C:\Users\user\Desktop\exclamation-mark-3084161280.png"/>
          <p:cNvPicPr/>
          <p:nvPr/>
        </p:nvPicPr>
        <p:blipFill>
          <a:blip r:embed="rId1"/>
          <a:stretch/>
        </p:blipFill>
        <p:spPr>
          <a:xfrm>
            <a:off x="1519200" y="2075040"/>
            <a:ext cx="1069920" cy="106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user\Desktop\exclamation-mark-3084161280.png"/>
          <p:cNvPicPr/>
          <p:nvPr/>
        </p:nvPicPr>
        <p:blipFill>
          <a:blip r:embed="rId2"/>
          <a:stretch/>
        </p:blipFill>
        <p:spPr>
          <a:xfrm>
            <a:off x="5675400" y="100656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user\Desktop\exclamation-mark-3084161280.png"/>
          <p:cNvPicPr/>
          <p:nvPr/>
        </p:nvPicPr>
        <p:blipFill>
          <a:blip r:embed="rId3"/>
          <a:stretch/>
        </p:blipFill>
        <p:spPr>
          <a:xfrm>
            <a:off x="10339560" y="765000"/>
            <a:ext cx="1068120" cy="10670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0" y="3143160"/>
            <a:ext cx="4632480" cy="178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</a:rPr>
              <a:t>Балаңызды компьютерде ұзақ уақыт отырудың оның денсаулығына келтіретін зияндарымен таныстырыңыз (көру қабілетіне зиян, омыртқада проблемалардың пайда болуы)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4686480" y="2208240"/>
            <a:ext cx="3047760" cy="184932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</a:rPr>
              <a:t>Жасөспірім пайдаланатын компьютерлік ойындарға, бағдарламаларға цензура жүргізіңіз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9059760" y="1967040"/>
            <a:ext cx="3048120" cy="305532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Calibri"/>
              </a:rPr>
              <a:t>Жасөспірімге Интернетке бақылаусыз кіруге рұқсат бермеңіз. Онымен бірге белгілі бір сайттарға кіруге тыйым салу жолдарын ойластыры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7209000" y="5129280"/>
            <a:ext cx="2525400" cy="1506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</a:rPr>
              <a:t>Компьютерді танымдық және білім алу мақсаттарында пайдаланы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344680" y="5529240"/>
            <a:ext cx="4740480" cy="752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Calibri"/>
                <a:ea typeface="Calibri"/>
              </a:rPr>
              <a:t>Жасөспірім үшін белгілеген ережелеріңізді өзіңіз бұзба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user\Desktop\exclamation-mark-3084161280.png"/>
          <p:cNvPicPr/>
          <p:nvPr/>
        </p:nvPicPr>
        <p:blipFill>
          <a:blip r:embed="rId4"/>
          <a:stretch/>
        </p:blipFill>
        <p:spPr>
          <a:xfrm>
            <a:off x="4487760" y="459900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user\Desktop\exclamation-mark-3084161280.png"/>
          <p:cNvPicPr/>
          <p:nvPr/>
        </p:nvPicPr>
        <p:blipFill>
          <a:blip r:embed="rId5"/>
          <a:stretch/>
        </p:blipFill>
        <p:spPr>
          <a:xfrm>
            <a:off x="7701120" y="3622680"/>
            <a:ext cx="10699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87280" y="371520"/>
            <a:ext cx="801684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ұрметті ата-аналар!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іздерге және балаларыңызға барлық істеріңізде табыс тілейміз!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қытты болыңыздар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2840040" y="3687840"/>
            <a:ext cx="65120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 БАЛАЛАР ҮШІН НЕСІМЕН ҚАУІПТІ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УІП ТҮРЛЕРІ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Знак запрета 10"/>
          <p:cNvSpPr/>
          <p:nvPr/>
        </p:nvSpPr>
        <p:spPr>
          <a:xfrm>
            <a:off x="3875040" y="2104920"/>
            <a:ext cx="3694320" cy="3822840"/>
          </a:xfrm>
          <a:custGeom>
            <a:avLst/>
            <a:gdLst/>
            <a:ahLst/>
            <a:rect l="l" t="t" r="r" b="b"/>
            <a:pathLst>
              <a:path w="3694112" h="3822700">
                <a:moveTo>
                  <a:pt x="0" y="1911350"/>
                </a:moveTo>
                <a:cubicBezTo>
                  <a:pt x="0" y="855741"/>
                  <a:pt x="826955" y="0"/>
                  <a:pt x="1847056" y="0"/>
                </a:cubicBezTo>
                <a:cubicBezTo>
                  <a:pt x="2867157" y="0"/>
                  <a:pt x="3694112" y="855741"/>
                  <a:pt x="3694112" y="1911350"/>
                </a:cubicBezTo>
                <a:cubicBezTo>
                  <a:pt x="3694112" y="2966959"/>
                  <a:pt x="2867157" y="3822700"/>
                  <a:pt x="1847056" y="3822700"/>
                </a:cubicBezTo>
                <a:cubicBezTo>
                  <a:pt x="826955" y="3822700"/>
                  <a:pt x="0" y="2966959"/>
                  <a:pt x="0" y="1911350"/>
                </a:cubicBezTo>
                <a:close/>
                <a:moveTo>
                  <a:pt x="2862642" y="2490778"/>
                </a:moveTo>
                <a:cubicBezTo>
                  <a:pt x="3096400" y="2034152"/>
                  <a:pt x="3030553" y="1471330"/>
                  <a:pt x="2698579" y="1088470"/>
                </a:cubicBezTo>
                <a:cubicBezTo>
                  <a:pt x="2337805" y="672395"/>
                  <a:pt x="1753710" y="572057"/>
                  <a:pt x="1286592" y="845913"/>
                </a:cubicBezTo>
                <a:lnTo>
                  <a:pt x="2862642" y="2490778"/>
                </a:lnTo>
                <a:close/>
                <a:moveTo>
                  <a:pt x="831470" y="1331922"/>
                </a:moveTo>
                <a:cubicBezTo>
                  <a:pt x="597712" y="1788548"/>
                  <a:pt x="663559" y="2351370"/>
                  <a:pt x="995533" y="2734230"/>
                </a:cubicBezTo>
                <a:cubicBezTo>
                  <a:pt x="1356307" y="3150305"/>
                  <a:pt x="1940402" y="3250643"/>
                  <a:pt x="2407520" y="2976787"/>
                </a:cubicBezTo>
                <a:lnTo>
                  <a:pt x="831470" y="1331922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с вырезом 14"/>
          <p:cNvSpPr/>
          <p:nvPr/>
        </p:nvSpPr>
        <p:spPr>
          <a:xfrm>
            <a:off x="235080" y="1704960"/>
            <a:ext cx="3375000" cy="1393920"/>
          </a:xfrm>
          <a:custGeom>
            <a:avLst/>
            <a:gdLst>
              <a:gd name="textAreaLeft" fmla="*/ 348120 w 3375000"/>
              <a:gd name="textAreaRight" fmla="*/ 3026880 w 3375000"/>
              <a:gd name="textAreaTop" fmla="*/ 348480 h 1393920"/>
              <a:gd name="textAreaBottom" fmla="*/ 104544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40" y="5400"/>
                </a:lnTo>
                <a:lnTo>
                  <a:pt x="17140" y="0"/>
                </a:lnTo>
                <a:lnTo>
                  <a:pt x="21600" y="10800"/>
                </a:lnTo>
                <a:lnTo>
                  <a:pt x="17140" y="21600"/>
                </a:lnTo>
                <a:lnTo>
                  <a:pt x="17140" y="16200"/>
                </a:lnTo>
                <a:lnTo>
                  <a:pt x="0" y="16200"/>
                </a:lnTo>
                <a:lnTo>
                  <a:pt x="223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тернетте алаяқтар кө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с вырезом 15"/>
          <p:cNvSpPr/>
          <p:nvPr/>
        </p:nvSpPr>
        <p:spPr>
          <a:xfrm>
            <a:off x="422280" y="3384720"/>
            <a:ext cx="3376440" cy="1338120"/>
          </a:xfrm>
          <a:custGeom>
            <a:avLst/>
            <a:gdLst>
              <a:gd name="textAreaLeft" fmla="*/ 334440 w 3376440"/>
              <a:gd name="textAreaRight" fmla="*/ 3042000 w 3376440"/>
              <a:gd name="textAreaTop" fmla="*/ 334440 h 1338120"/>
              <a:gd name="textAreaBottom" fmla="*/ 100368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20" y="5400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6200"/>
                </a:lnTo>
                <a:lnTo>
                  <a:pt x="0" y="16200"/>
                </a:lnTo>
                <a:lnTo>
                  <a:pt x="21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иянды тақырып сайтт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с вырезом 16"/>
          <p:cNvSpPr/>
          <p:nvPr/>
        </p:nvSpPr>
        <p:spPr>
          <a:xfrm>
            <a:off x="627120" y="5200560"/>
            <a:ext cx="3376440" cy="1246320"/>
          </a:xfrm>
          <a:custGeom>
            <a:avLst/>
            <a:gdLst>
              <a:gd name="textAreaLeft" fmla="*/ 311400 w 3376440"/>
              <a:gd name="textAreaRight" fmla="*/ 3065040 w 3376440"/>
              <a:gd name="textAreaTop" fmla="*/ 311400 h 1246320"/>
              <a:gd name="textAreaBottom" fmla="*/ 9349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14" y="5400"/>
                </a:ln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17614" y="16200"/>
                </a:lnTo>
                <a:lnTo>
                  <a:pt x="0" y="16200"/>
                </a:lnTo>
                <a:lnTo>
                  <a:pt x="19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Шынайы өмірде алд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лево 18"/>
          <p:cNvSpPr/>
          <p:nvPr/>
        </p:nvSpPr>
        <p:spPr>
          <a:xfrm>
            <a:off x="7943760" y="2041560"/>
            <a:ext cx="2933640" cy="10573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Құмар ойын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лево 21"/>
          <p:cNvSpPr/>
          <p:nvPr/>
        </p:nvSpPr>
        <p:spPr>
          <a:xfrm>
            <a:off x="7742160" y="3265560"/>
            <a:ext cx="4275360" cy="18129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Calibri"/>
              </a:rPr>
              <a:t>Тыйым салынған заттар мен ұғымдар туралы ақпарат тарататын сай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лево 22"/>
          <p:cNvSpPr/>
          <p:nvPr/>
        </p:nvSpPr>
        <p:spPr>
          <a:xfrm>
            <a:off x="8396280" y="5200560"/>
            <a:ext cx="2932200" cy="12225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орумдар, әлеужелілер, ойын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49280" y="222120"/>
            <a:ext cx="769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0000"/>
                </a:solidFill>
                <a:latin typeface="Calibri Light"/>
              </a:rPr>
              <a:t>Жасөспірімдер - қауіп тобынд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9720" y="1547640"/>
            <a:ext cx="894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Компьютерлік тәуелділік 6 жасар балаларда анықталады. Алайда ол 12-15 жасар жасөспірімдерде аса жиі пайда болады, сондықтан 16-17 жасқа қарай шешілуі қиын проблемаға айналуы мүмкін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Calibri"/>
              </a:rPr>
              <a:t>Жасөспірімдік шақ – бұл өмірлік мақсаттар қалыптастыру, моральдық-адамгершілік бағдарлар жасау, әлеуметтік байланыстарды кеңейту кезеңі. Компьютерге тәуелді жасөспірім өзінің қарым-қатынас шеңберін интернетпен шектейді. Салдарынан – өмірлік тәжірибенің болмауы, маңызды мәселелерді шешудегі бойкүйездік, әлеуметтік бейімделудегі қиындықтар</a:t>
            </a:r>
            <a:r>
              <a:rPr b="1" lang="ru-RU" sz="2800" spc="-1" strike="noStrike">
                <a:solidFill>
                  <a:srgbClr val="091eb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15920" y="2225520"/>
            <a:ext cx="31636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85840"/>
            <a:ext cx="11577600" cy="14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Calibri"/>
                <a:ea typeface="Times New Roman"/>
              </a:rPr>
              <a:t>ӨЗ БАЛАҢДЫ ҚАЛАЙ ҚОРҒАУ ҚАЖЕТ?</a:t>
            </a:r>
            <a:br>
              <a:rPr sz="4300"/>
            </a:b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БҮКІЛӘЛЕМДІК ТОРДЫҢ ЖАҒЫМСЫЗ ӘСЕРІНЕН ҚАЛАЙ ҚҰТҚАРУҒА БОЛАДЫ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2160" y="1814400"/>
            <a:ext cx="11334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та-ана </a:t>
            </a:r>
            <a:r>
              <a:rPr b="1" lang="kk-K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 кеңесті </a:t>
            </a:r>
            <a:r>
              <a:rPr b="1" lang="kk-KZ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ұқият орындауы қажет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РІНШІ КЕҢЕС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ңыздың Интернетте немен айналысатынынан хабардар болыңыз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kk-KZ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рине, ересек жасөспірім, барлық жағынан дербестікке ұмтылады. Бірақ оған дербестік беру ата-анамен НЕНІҢ болатынын, ал НЕНІҢ болмайтынын анық келісім арқылы жүзеге асырылуы керек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ІНШІ КЕҢЕС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лардан қандай чаттарға, топтарға, хабарландыру парақшаларына кіретінін және кіммен араласатынын сұрап біліңіз. Қадағаланатын чаттардағы қарым-қатынасын құптаңыз (спорт, музыка сабақтары бойынша сыныптастарымен, достарымен және т.б.) және балалардың тек ортақ чат терезелерінде ғана араласуын талап етіңіз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войная стрелка влево/вправо 3"/>
          <p:cNvSpPr/>
          <p:nvPr/>
        </p:nvSpPr>
        <p:spPr>
          <a:xfrm>
            <a:off x="2394000" y="23302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войная стрелка влево/вправо 4"/>
          <p:cNvSpPr/>
          <p:nvPr/>
        </p:nvSpPr>
        <p:spPr>
          <a:xfrm>
            <a:off x="2184480" y="428616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11850480" cy="26146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4" descr=""/>
          <p:cNvPicPr/>
          <p:nvPr/>
        </p:nvPicPr>
        <p:blipFill>
          <a:blip r:embed="rId2"/>
          <a:stretch/>
        </p:blipFill>
        <p:spPr>
          <a:xfrm>
            <a:off x="390600" y="2401920"/>
            <a:ext cx="11837880" cy="4456080"/>
          </a:xfrm>
          <a:prstGeom prst="rect">
            <a:avLst/>
          </a:prstGeom>
          <a:ln w="0">
            <a:noFill/>
          </a:ln>
        </p:spPr>
      </p:pic>
      <p:sp>
        <p:nvSpPr>
          <p:cNvPr id="62" name="Двойная стрелка влево/вправо 9"/>
          <p:cNvSpPr/>
          <p:nvPr/>
        </p:nvSpPr>
        <p:spPr>
          <a:xfrm>
            <a:off x="1619280" y="803160"/>
            <a:ext cx="1216080" cy="48600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войная стрелка влево/вправо 10"/>
          <p:cNvSpPr/>
          <p:nvPr/>
        </p:nvSpPr>
        <p:spPr>
          <a:xfrm>
            <a:off x="1619280" y="2751120"/>
            <a:ext cx="1216080" cy="485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090960" y="4498920"/>
            <a:ext cx="8974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ІНШІ КЕҢЕС. </a:t>
            </a:r>
            <a:br>
              <a:rPr sz="4000"/>
            </a:br>
            <a:r>
              <a:rPr b="1" lang="kk-KZ" sz="18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Балаңызға Интернетте кей адамдардың өтірік айтуы және өзі көрсеткен адам болып шықпауы мүмкін екенін түсінуге көмектесіңіз. Сіздің балаңыз ешқашан өз бетінше, ересектерсіз шынайы өмірде интернет-достармен кездеспеуі керек</a:t>
            </a: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войная стрелка влево/вправо 11"/>
          <p:cNvSpPr/>
          <p:nvPr/>
        </p:nvSpPr>
        <p:spPr>
          <a:xfrm>
            <a:off x="1539720" y="4589640"/>
            <a:ext cx="1216080" cy="483840"/>
          </a:xfrm>
          <a:prstGeom prst="leftRightArrow">
            <a:avLst>
              <a:gd name="adj1" fmla="val 50000"/>
              <a:gd name="adj2" fmla="val 50035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720" y="155520"/>
            <a:ext cx="11876040" cy="21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ЫНШЫ КЕҢЕС</a:t>
            </a: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br>
              <a:rPr sz="4300"/>
            </a:br>
            <a:r>
              <a:rPr b="1" lang="kk-KZ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лаларыңызды Интернетте біреу ренжіткен немесе агрессивті сөздерге, кінәлауға, балағаттауға тап болған жағдайда, оларды дұрыс әрекет етуге үйретіңіз. Оларға бұндай жағдайларды Сізге айтуы тиіс екенін және Сіз міндетті түрде көмектесетініңізді айтыңыз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62160" y="2382480"/>
            <a:ext cx="69469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НШІ КЕҢЕС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іздің үй компьютеріңізде сүзгілеу құралдарының орнатылғанына және дұрыс күйге келтірілгеніне көз жеткізіңіз. Бұл жерде Сізге интернет-қауіпсіздік саласындағы маман көмектеседі. Қажетсіз контентті бұғаттауға мүмкіндік беретін бақылау құралдары бар           (мысалы, MNS Premium’s Parental Controls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1"/>
          <a:stretch/>
        </p:blipFill>
        <p:spPr>
          <a:xfrm>
            <a:off x="360360" y="3236760"/>
            <a:ext cx="4151160" cy="3035520"/>
          </a:xfrm>
          <a:prstGeom prst="rect">
            <a:avLst/>
          </a:prstGeom>
          <a:ln w="0">
            <a:noFill/>
          </a:ln>
        </p:spPr>
      </p:pic>
      <p:sp>
        <p:nvSpPr>
          <p:cNvPr id="69" name="Двойная стрелка влево/вправо 10"/>
          <p:cNvSpPr/>
          <p:nvPr/>
        </p:nvSpPr>
        <p:spPr>
          <a:xfrm>
            <a:off x="3049560" y="62064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войная стрелка влево/вправо 11"/>
          <p:cNvSpPr/>
          <p:nvPr/>
        </p:nvSpPr>
        <p:spPr>
          <a:xfrm>
            <a:off x="3178080" y="2462040"/>
            <a:ext cx="1216080" cy="48600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1129356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асөспірімнің компьютерге әуестенуі оның психикалық және физикалық денсаулығы, тұлғалық дамуы және әлеуметтенуі үшін қауіпті бола бастағандығының белгілер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Picture 2" descr="C:\Users\user\Desktop\500_F_85811152_yKYHADYK4qad5bmLn4sB1gfuvVS7h8qW.jpg"/>
          <p:cNvPicPr/>
          <p:nvPr/>
        </p:nvPicPr>
        <p:blipFill>
          <a:blip r:embed="rId1"/>
          <a:stretch/>
        </p:blipFill>
        <p:spPr>
          <a:xfrm>
            <a:off x="237960" y="2895480"/>
            <a:ext cx="3505320" cy="2700360"/>
          </a:xfrm>
          <a:prstGeom prst="rect">
            <a:avLst/>
          </a:prstGeom>
          <a:ln w="0">
            <a:noFill/>
          </a:ln>
        </p:spPr>
      </p:pic>
      <p:pic>
        <p:nvPicPr>
          <p:cNvPr id="73" name="Схема 1" descr=""/>
          <p:cNvPicPr/>
          <p:nvPr/>
        </p:nvPicPr>
        <p:blipFill>
          <a:blip r:embed="rId2"/>
          <a:stretch/>
        </p:blipFill>
        <p:spPr>
          <a:xfrm>
            <a:off x="4054320" y="1566720"/>
            <a:ext cx="782028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право 3"/>
          <p:cNvSpPr/>
          <p:nvPr/>
        </p:nvSpPr>
        <p:spPr>
          <a:xfrm>
            <a:off x="4195800" y="4452840"/>
            <a:ext cx="804960" cy="343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6"/>
          <p:cNvSpPr/>
          <p:nvPr/>
        </p:nvSpPr>
        <p:spPr>
          <a:xfrm>
            <a:off x="2717640" y="2324160"/>
            <a:ext cx="1152720" cy="3427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7"/>
          <p:cNvSpPr/>
          <p:nvPr/>
        </p:nvSpPr>
        <p:spPr>
          <a:xfrm>
            <a:off x="5127480" y="6296040"/>
            <a:ext cx="660600" cy="3445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8"/>
          <p:cNvSpPr/>
          <p:nvPr/>
        </p:nvSpPr>
        <p:spPr>
          <a:xfrm>
            <a:off x="6993000" y="2949480"/>
            <a:ext cx="625320" cy="343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9"/>
          <p:cNvSpPr/>
          <p:nvPr/>
        </p:nvSpPr>
        <p:spPr>
          <a:xfrm>
            <a:off x="7604280" y="5043600"/>
            <a:ext cx="593640" cy="344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26840" y="132840"/>
            <a:ext cx="893772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ГЕ ТӘУЕЛДІЛІКТІҢ СЕБЕПТЕРІ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24600" y="5127480"/>
            <a:ext cx="3763800" cy="1562400"/>
          </a:xfrm>
          <a:prstGeom prst="rect">
            <a:avLst/>
          </a:prstGeom>
          <a:solidFill>
            <a:srgbClr val="adb9ca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басындағы ересектердің психо-эмоционалдық шиеленіс күйін тудыратын үнемі болатын ұрыс-керістері, олардан бала басқа жаққа қашқысы келеді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2378160" y="2610000"/>
            <a:ext cx="3297240" cy="164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user\Desktop\восклицательный-знак.jpg"/>
          <p:cNvPicPr/>
          <p:nvPr/>
        </p:nvPicPr>
        <p:blipFill>
          <a:blip r:embed="rId2"/>
          <a:stretch/>
        </p:blipFill>
        <p:spPr>
          <a:xfrm>
            <a:off x="6788160" y="3005280"/>
            <a:ext cx="114444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\Desktop\восклицательный-знак.jpg"/>
          <p:cNvPicPr/>
          <p:nvPr/>
        </p:nvPicPr>
        <p:blipFill>
          <a:blip r:embed="rId3"/>
          <a:stretch/>
        </p:blipFill>
        <p:spPr>
          <a:xfrm>
            <a:off x="6810480" y="5100480"/>
            <a:ext cx="11444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user\Desktop\восклицательный-знак.jpg"/>
          <p:cNvPicPr/>
          <p:nvPr/>
        </p:nvPicPr>
        <p:blipFill>
          <a:blip r:embed="rId4"/>
          <a:stretch/>
        </p:blipFill>
        <p:spPr>
          <a:xfrm>
            <a:off x="434880" y="4564080"/>
            <a:ext cx="114480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user\Desktop\восклицательный-знак.jpg"/>
          <p:cNvPicPr/>
          <p:nvPr/>
        </p:nvPicPr>
        <p:blipFill>
          <a:blip r:embed="rId5"/>
          <a:stretch/>
        </p:blipFill>
        <p:spPr>
          <a:xfrm>
            <a:off x="6800760" y="1353960"/>
            <a:ext cx="1144800" cy="1524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user\Desktop\восклицательный-знак.jpg"/>
          <p:cNvPicPr/>
          <p:nvPr/>
        </p:nvPicPr>
        <p:blipFill>
          <a:blip r:embed="rId6"/>
          <a:stretch/>
        </p:blipFill>
        <p:spPr>
          <a:xfrm>
            <a:off x="357120" y="1082520"/>
            <a:ext cx="1144800" cy="15242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417680" y="1709640"/>
            <a:ext cx="5041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ның түрлі компьютер ойындарынан алуы мүмкін қызықшылықтарға тоймауы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712880" y="4506840"/>
            <a:ext cx="4746600" cy="2150280"/>
          </a:xfrm>
          <a:prstGeom prst="rect">
            <a:avLst/>
          </a:prstGeom>
          <a:solidFill>
            <a:srgbClr val="f8c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ның қараусыздығы: бала еркіндікте, себебі ата-ана өз проблемаларын шешуден қолы босамайды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та-анасымен, сыныптастарымен, құрдастарымен қарым-қатынастың жетіспеушілігі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7800840" y="3040200"/>
            <a:ext cx="3811680" cy="14655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ның өзін бағалауы тым төмен немесе тым жоғары – шынайы өмірдегі сәтсіздіктер виртуалды өмірге сүңгуге түрткі болады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7800840" y="1577880"/>
            <a:ext cx="4097520" cy="146556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ыныптастары немесе құрдастары тарапынан физикалық немесе эмоционалды-психологиялық зорлық-зомбылық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0000"/>
                </a:solidFill>
                <a:latin typeface="Calibri"/>
              </a:rPr>
              <a:t>КОМПЬЮТЕРГЕ ТӘУЕЛДІЛІКТІҢ АЛДЫН АЛУ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Picture 3" descr="C:\Users\user\Desktop\exclamation-mark-3084161280.png"/>
          <p:cNvPicPr/>
          <p:nvPr/>
        </p:nvPicPr>
        <p:blipFill>
          <a:blip r:embed="rId1"/>
          <a:stretch/>
        </p:blipFill>
        <p:spPr>
          <a:xfrm>
            <a:off x="95400" y="1584360"/>
            <a:ext cx="1068120" cy="106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d2kym60b0ykakr.cloudfront.net/articleimages/16627-rtfm-pKEM9VIbVok43AR/exclamation-mark-3084161280.png"/>
          <p:cNvPicPr/>
          <p:nvPr/>
        </p:nvPicPr>
        <p:blipFill>
          <a:blip r:embed="rId2"/>
          <a:stretch/>
        </p:blipFill>
        <p:spPr>
          <a:xfrm>
            <a:off x="403200" y="2952720"/>
            <a:ext cx="1114560" cy="1112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user\Desktop\exclamation-mark-3084161280.png"/>
          <p:cNvPicPr/>
          <p:nvPr/>
        </p:nvPicPr>
        <p:blipFill>
          <a:blip r:embed="rId3"/>
          <a:stretch/>
        </p:blipFill>
        <p:spPr>
          <a:xfrm>
            <a:off x="1374840" y="4200480"/>
            <a:ext cx="1068480" cy="10684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1384200" y="1731960"/>
            <a:ext cx="5359680" cy="1231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Жасөспірімнің әр түрлі жұмысбастылығын қамтамасыз етіңіз (үйірмелер, секциялар, қызығушылықтардың кең таралған спектрін құптау)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1697040" y="3132000"/>
            <a:ext cx="4734000" cy="825480"/>
          </a:xfrm>
          <a:prstGeom prst="rect">
            <a:avLst/>
          </a:prstGeom>
          <a:solidFill>
            <a:srgbClr val="f8c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Calibri"/>
              </a:rPr>
              <a:t>Ерте жастан бастап үйдегі міндеттерге баулы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010040" y="5427720"/>
            <a:ext cx="5243400" cy="123192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</a:rPr>
              <a:t>Күн сайын балаңызбен сөйлесіңіз. Оның өміріндегі оқиғалардан, қуаныштары мен күйініштерінен, проблемалары мен жетістіктерінен хабардар болы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8881920" y="2381400"/>
            <a:ext cx="3013200" cy="23972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Calibri"/>
              </a:rPr>
              <a:t>Барлық қолжетімді құралдар арқылы оның ой-өрісін кеңейтіңіз (бірлескен саяхаттар, көрме, мұражай, театрларға бару)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2846520" y="4270320"/>
            <a:ext cx="5200560" cy="123192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Міндетті түрде жасөспірімнің шынайы өміріндегі – оқудағы, спорттағы, шығармашылықтағы кез келген жетістіктері үшін жігерлендіріп отырыңыз</a:t>
            </a: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user\Desktop\exclamation-mark-3084161280.png"/>
          <p:cNvPicPr/>
          <p:nvPr/>
        </p:nvPicPr>
        <p:blipFill>
          <a:blip r:embed="rId4"/>
          <a:stretch/>
        </p:blipFill>
        <p:spPr>
          <a:xfrm>
            <a:off x="2441520" y="5562720"/>
            <a:ext cx="1069920" cy="106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user\Desktop\exclamation-mark-3084161280.png"/>
          <p:cNvPicPr/>
          <p:nvPr/>
        </p:nvPicPr>
        <p:blipFill>
          <a:blip r:embed="rId5"/>
          <a:stretch/>
        </p:blipFill>
        <p:spPr>
          <a:xfrm>
            <a:off x="7608960" y="2779560"/>
            <a:ext cx="10684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5:39:11Z</dcterms:created>
  <dc:creator>Наталья</dc:creator>
  <dc:description/>
  <dc:language>en-US</dc:language>
  <cp:lastModifiedBy>28</cp:lastModifiedBy>
  <dcterms:modified xsi:type="dcterms:W3CDTF">2019-04-05T11:04:40Z</dcterms:modified>
  <cp:revision>287</cp:revision>
  <dc:subject/>
  <dc:title>Презентация PowerPoint</dc:title>
</cp:coreProperties>
</file>