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83F-F26A-48A1-8D4E-CA9A3171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AE2-21EF-4EE0-9FCC-065E24C2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AC8-6501-4E25-A6EE-AE07137E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5AD-0CF6-4C08-A7AC-532D3478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859E-CCFB-433F-B528-03C8B4B5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0FE-57EC-4616-94D0-6DA51EE0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C69-6639-4D57-9F32-90592F54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358D-8BD3-48E7-954A-E8E81AD5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430E-1C5E-4941-BDAE-967223EF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AA8-3F92-4BE6-8625-E6A400BA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5DE-D331-43A2-82C0-C288C637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915-E509-4104-BBDE-25950B13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0b4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C545-C9CD-4D61-926D-356C8C8A37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cc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5040" y="365040"/>
            <a:ext cx="11005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ланың ақпараттық қауіпсіздігін қамтамасыз ету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87160" y="2063520"/>
            <a:ext cx="11188440" cy="44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қпараттық қауіпсіздікті қамтамасыз ету </a:t>
            </a:r>
            <a:r>
              <a:rPr b="0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зиянды ақпарат, оның ішінде Интернет желісінде таралатын ақпарат алу арқылы баланың денсаулығына және оның дамуына (физикалық, психикалық, рухани және адамгершілік) зиян келтіру қаупін жоюды білдіреді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6254640" y="3681360"/>
            <a:ext cx="342576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2" descr=""/>
          <p:cNvPicPr/>
          <p:nvPr/>
        </p:nvPicPr>
        <p:blipFill>
          <a:blip r:embed="rId1"/>
          <a:stretch/>
        </p:blipFill>
        <p:spPr>
          <a:xfrm>
            <a:off x="3602160" y="3852720"/>
            <a:ext cx="4987800" cy="2786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87280" y="209520"/>
            <a:ext cx="8016840" cy="40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Құрметті ата-аналар!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Georgia"/>
              </a:rPr>
              <a:t>Сіздерге және балаларыңызға барлық істеріңізде табыс тілейміз!</a:t>
            </a:r>
            <a:br>
              <a:rPr sz="4000"/>
            </a:br>
            <a:br>
              <a:rPr sz="1800"/>
            </a:b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Бақытты болыңыздар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cc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360" y="556920"/>
            <a:ext cx="11001240" cy="24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ланың ақпараттық қауіпсіздігін қамтамасыз етуге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ауапкершілік оның ата-анасының мойнында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2160" y="3311280"/>
            <a:ext cx="10361520" cy="28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та-ананың міндеті </a:t>
            </a:r>
            <a:r>
              <a:rPr b="0" lang="kk-KZ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1" lang="kk-KZ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ланың Интернетті пайдалануын өз бақылауына қою және баланың Интернет жеткізетін қызметтер мен ақпаратты  тұтыну мәдениетін қалыптастыру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ятно 1 5"/>
          <p:cNvSpPr/>
          <p:nvPr/>
        </p:nvSpPr>
        <p:spPr>
          <a:xfrm>
            <a:off x="5226120" y="2508120"/>
            <a:ext cx="914400" cy="91440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 БАЛАЛАР ҮШІН НЕСІМЕН ҚАУІПТІ?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ҚАУІП ТҮРЛЕРІ 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Знак запрета 10"/>
          <p:cNvSpPr/>
          <p:nvPr/>
        </p:nvSpPr>
        <p:spPr>
          <a:xfrm>
            <a:off x="3875040" y="2104920"/>
            <a:ext cx="3694320" cy="3822840"/>
          </a:xfrm>
          <a:custGeom>
            <a:avLst/>
            <a:gdLst/>
            <a:ahLst/>
            <a:rect l="l" t="t" r="r" b="b"/>
            <a:pathLst>
              <a:path w="3694112" h="3822700">
                <a:moveTo>
                  <a:pt x="0" y="1911350"/>
                </a:moveTo>
                <a:cubicBezTo>
                  <a:pt x="0" y="855741"/>
                  <a:pt x="826955" y="0"/>
                  <a:pt x="1847056" y="0"/>
                </a:cubicBezTo>
                <a:cubicBezTo>
                  <a:pt x="2867157" y="0"/>
                  <a:pt x="3694112" y="855741"/>
                  <a:pt x="3694112" y="1911350"/>
                </a:cubicBezTo>
                <a:cubicBezTo>
                  <a:pt x="3694112" y="2966959"/>
                  <a:pt x="2867157" y="3822700"/>
                  <a:pt x="1847056" y="3822700"/>
                </a:cubicBezTo>
                <a:cubicBezTo>
                  <a:pt x="826955" y="3822700"/>
                  <a:pt x="0" y="2966959"/>
                  <a:pt x="0" y="1911350"/>
                </a:cubicBezTo>
                <a:close/>
                <a:moveTo>
                  <a:pt x="2862642" y="2490778"/>
                </a:moveTo>
                <a:cubicBezTo>
                  <a:pt x="3096400" y="2034152"/>
                  <a:pt x="3030553" y="1471330"/>
                  <a:pt x="2698579" y="1088470"/>
                </a:cubicBezTo>
                <a:cubicBezTo>
                  <a:pt x="2337805" y="672395"/>
                  <a:pt x="1753710" y="572057"/>
                  <a:pt x="1286592" y="845913"/>
                </a:cubicBezTo>
                <a:lnTo>
                  <a:pt x="2862642" y="2490778"/>
                </a:lnTo>
                <a:close/>
                <a:moveTo>
                  <a:pt x="831470" y="1331922"/>
                </a:moveTo>
                <a:cubicBezTo>
                  <a:pt x="597712" y="1788548"/>
                  <a:pt x="663559" y="2351370"/>
                  <a:pt x="995533" y="2734230"/>
                </a:cubicBezTo>
                <a:cubicBezTo>
                  <a:pt x="1356307" y="3150305"/>
                  <a:pt x="1940402" y="3250643"/>
                  <a:pt x="2407520" y="2976787"/>
                </a:cubicBezTo>
                <a:lnTo>
                  <a:pt x="831470" y="1331922"/>
                </a:lnTo>
                <a:close/>
              </a:path>
            </a:pathLst>
          </a:cu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право с вырезом 14"/>
          <p:cNvSpPr/>
          <p:nvPr/>
        </p:nvSpPr>
        <p:spPr>
          <a:xfrm>
            <a:off x="235080" y="1704960"/>
            <a:ext cx="3375000" cy="1393920"/>
          </a:xfrm>
          <a:custGeom>
            <a:avLst/>
            <a:gdLst>
              <a:gd name="textAreaLeft" fmla="*/ 348120 w 3375000"/>
              <a:gd name="textAreaRight" fmla="*/ 3026880 w 3375000"/>
              <a:gd name="textAreaTop" fmla="*/ 348480 h 1393920"/>
              <a:gd name="textAreaBottom" fmla="*/ 1045440 h 1393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40" y="5400"/>
                </a:lnTo>
                <a:lnTo>
                  <a:pt x="17140" y="0"/>
                </a:lnTo>
                <a:lnTo>
                  <a:pt x="21600" y="10800"/>
                </a:lnTo>
                <a:lnTo>
                  <a:pt x="17140" y="21600"/>
                </a:lnTo>
                <a:lnTo>
                  <a:pt x="17140" y="16200"/>
                </a:lnTo>
                <a:lnTo>
                  <a:pt x="0" y="16200"/>
                </a:lnTo>
                <a:lnTo>
                  <a:pt x="223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нетте алаяқтар кө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право с вырезом 15"/>
          <p:cNvSpPr/>
          <p:nvPr/>
        </p:nvSpPr>
        <p:spPr>
          <a:xfrm>
            <a:off x="325440" y="3265560"/>
            <a:ext cx="3376440" cy="1338120"/>
          </a:xfrm>
          <a:custGeom>
            <a:avLst/>
            <a:gdLst>
              <a:gd name="textAreaLeft" fmla="*/ 334440 w 3376440"/>
              <a:gd name="textAreaRight" fmla="*/ 3042000 w 3376440"/>
              <a:gd name="textAreaTop" fmla="*/ 334440 h 1338120"/>
              <a:gd name="textAreaBottom" fmla="*/ 1003680 h 1338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320" y="5400"/>
                </a:lnTo>
                <a:lnTo>
                  <a:pt x="17320" y="0"/>
                </a:lnTo>
                <a:lnTo>
                  <a:pt x="21600" y="10800"/>
                </a:lnTo>
                <a:lnTo>
                  <a:pt x="17320" y="21600"/>
                </a:lnTo>
                <a:lnTo>
                  <a:pt x="17320" y="16200"/>
                </a:lnTo>
                <a:lnTo>
                  <a:pt x="0" y="16200"/>
                </a:lnTo>
                <a:lnTo>
                  <a:pt x="214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иянды тақырып сайтт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право с вырезом 16"/>
          <p:cNvSpPr/>
          <p:nvPr/>
        </p:nvSpPr>
        <p:spPr>
          <a:xfrm>
            <a:off x="627120" y="5200560"/>
            <a:ext cx="3376440" cy="1246320"/>
          </a:xfrm>
          <a:custGeom>
            <a:avLst/>
            <a:gdLst>
              <a:gd name="textAreaLeft" fmla="*/ 311400 w 3376440"/>
              <a:gd name="textAreaRight" fmla="*/ 3065040 w 3376440"/>
              <a:gd name="textAreaTop" fmla="*/ 311400 h 1246320"/>
              <a:gd name="textAreaBottom" fmla="*/ 934920 h 124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14" y="5400"/>
                </a:lnTo>
                <a:lnTo>
                  <a:pt x="17614" y="0"/>
                </a:lnTo>
                <a:lnTo>
                  <a:pt x="21600" y="10800"/>
                </a:lnTo>
                <a:lnTo>
                  <a:pt x="17614" y="21600"/>
                </a:lnTo>
                <a:lnTo>
                  <a:pt x="17614" y="16200"/>
                </a:lnTo>
                <a:lnTo>
                  <a:pt x="0" y="16200"/>
                </a:lnTo>
                <a:lnTo>
                  <a:pt x="199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ынайы өмірде алд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лево 18"/>
          <p:cNvSpPr/>
          <p:nvPr/>
        </p:nvSpPr>
        <p:spPr>
          <a:xfrm>
            <a:off x="7943760" y="2041560"/>
            <a:ext cx="2933640" cy="1057320"/>
          </a:xfrm>
          <a:prstGeom prst="leftArrow">
            <a:avLst>
              <a:gd name="adj1" fmla="val 50000"/>
              <a:gd name="adj2" fmla="val 49994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Құмар ойын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лево 21"/>
          <p:cNvSpPr/>
          <p:nvPr/>
        </p:nvSpPr>
        <p:spPr>
          <a:xfrm>
            <a:off x="7742160" y="3265560"/>
            <a:ext cx="4275360" cy="18129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йым салынған заттар мен ұғымдар туралы ақпарат тарататын сайт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лево 22"/>
          <p:cNvSpPr/>
          <p:nvPr/>
        </p:nvSpPr>
        <p:spPr>
          <a:xfrm>
            <a:off x="8121600" y="5245200"/>
            <a:ext cx="3087720" cy="1144440"/>
          </a:xfrm>
          <a:prstGeom prst="leftArrow">
            <a:avLst>
              <a:gd name="adj1" fmla="val 50000"/>
              <a:gd name="adj2" fmla="val 50001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умдар, әлеуметтік желілер, ойын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cc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65852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қпараттық қауіпсіздікті қамтамасыз ету үшін, </a:t>
            </a:r>
            <a:br>
              <a:rPr sz="4400"/>
            </a:br>
            <a:r>
              <a:rPr b="1" lang="kk-KZ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НАДАЙ </a:t>
            </a:r>
            <a:r>
              <a:rPr b="1" lang="kk-K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ТІ</a:t>
            </a:r>
            <a:r>
              <a:rPr b="1" lang="kk-KZ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ЕРЕЖЕНІ ОРЫНДАУ ҚАЖЕТ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84840" y="3389040"/>
            <a:ext cx="7046640" cy="27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ІРІНШІ ЕРЕЖ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лаларыңыз Интернетте немен айналысатынынан хабардар болыңы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7" descr=""/>
          <p:cNvPicPr/>
          <p:nvPr/>
        </p:nvPicPr>
        <p:blipFill>
          <a:blip r:embed="rId1"/>
          <a:stretch/>
        </p:blipFill>
        <p:spPr>
          <a:xfrm>
            <a:off x="353880" y="3035160"/>
            <a:ext cx="4267440" cy="3322800"/>
          </a:xfrm>
          <a:prstGeom prst="rect">
            <a:avLst/>
          </a:prstGeom>
          <a:ln w="0">
            <a:noFill/>
          </a:ln>
        </p:spPr>
      </p:pic>
      <p:sp>
        <p:nvSpPr>
          <p:cNvPr id="58" name="Пятно 1 5"/>
          <p:cNvSpPr/>
          <p:nvPr/>
        </p:nvSpPr>
        <p:spPr>
          <a:xfrm>
            <a:off x="4884840" y="3300480"/>
            <a:ext cx="914400" cy="91440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cc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ІНШІ ЕРЕЖЕ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36560" y="1427040"/>
            <a:ext cx="1061712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лалардан қандай чаттарға, топтарға, хабарландыру парақшаларына кіретінін және кіммен араласатынын сұрап біліңіз. Қадағаланатын чаттардағы қарым-қатынасын құптаңыз (спорт, музыка сабақтары бойынша сыныптастарымен, достарымен және т.б.) және балалардың тек ортақ чат терезелерінде ғана араласуын талап етіңіз</a:t>
            </a:r>
            <a:r>
              <a:rPr b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4297320" y="3981600"/>
            <a:ext cx="3597480" cy="2700360"/>
          </a:xfrm>
          <a:prstGeom prst="rect">
            <a:avLst/>
          </a:prstGeom>
          <a:ln w="0">
            <a:noFill/>
          </a:ln>
        </p:spPr>
      </p:pic>
      <p:sp>
        <p:nvSpPr>
          <p:cNvPr id="62" name="Пятно 1 4"/>
          <p:cNvSpPr/>
          <p:nvPr/>
        </p:nvSpPr>
        <p:spPr>
          <a:xfrm>
            <a:off x="2063880" y="279360"/>
            <a:ext cx="914400" cy="91440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cc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ҮШІНШІ ЕРЕЖЕ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Балаларыңызға Интернетте қандай да бір адамға өзі туралы ақпарат бермеуі (мобильді телефон нөмірі, үй мекенжайы, мектебінің атауы мен нөмірі), сондай-ақ өзі мен отбасының фотосуреттерін орналастырмауы тиіс екенін түсінуге көмектесіңіз</a:t>
            </a:r>
            <a:r>
              <a:rPr b="1" lang="ru-RU" sz="2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4" descr=""/>
          <p:cNvPicPr/>
          <p:nvPr/>
        </p:nvPicPr>
        <p:blipFill>
          <a:blip r:embed="rId1"/>
          <a:stretch/>
        </p:blipFill>
        <p:spPr>
          <a:xfrm>
            <a:off x="3938760" y="3919680"/>
            <a:ext cx="3979800" cy="2590560"/>
          </a:xfrm>
          <a:prstGeom prst="rect">
            <a:avLst/>
          </a:prstGeom>
          <a:ln w="0">
            <a:noFill/>
          </a:ln>
        </p:spPr>
      </p:pic>
      <p:sp>
        <p:nvSpPr>
          <p:cNvPr id="66" name="Пятно 1 5"/>
          <p:cNvSpPr/>
          <p:nvPr/>
        </p:nvSpPr>
        <p:spPr>
          <a:xfrm>
            <a:off x="1973160" y="365040"/>
            <a:ext cx="914400" cy="91440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cc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ӨРТІНШІ ЕРЕЖ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алаңызға оған және сізге белгісіз адамдардан жіберілген файлдарды ашуға болмайтындығын түсіндіріңіз. Бұл файлдарда вирустар немесе зиянды, агрессивті мазмұндағы фото/бейне болуы мүмкін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ятно 1 4"/>
          <p:cNvSpPr/>
          <p:nvPr/>
        </p:nvSpPr>
        <p:spPr>
          <a:xfrm>
            <a:off x="1706400" y="365040"/>
            <a:ext cx="914400" cy="91440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5" descr=""/>
          <p:cNvPicPr/>
          <p:nvPr/>
        </p:nvPicPr>
        <p:blipFill>
          <a:blip r:embed="rId1"/>
          <a:stretch/>
        </p:blipFill>
        <p:spPr>
          <a:xfrm>
            <a:off x="3822840" y="3664080"/>
            <a:ext cx="42116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cc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СІНШІ ЕРЕЖЕ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37720" y="1825200"/>
            <a:ext cx="10703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лаңызға Интернетте кей адамдардың өтірік айтуы және өзі көрсеткен адам болып шықпауы мүмкін екенін түсінуге көмектесіңіз. Сіздің балаңыз ешқашан өз бетінше, ересектерсіз шынайы өмірде интернет-достармен кездеспеуі керек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870360" y="3676680"/>
            <a:ext cx="3865680" cy="2820960"/>
          </a:xfrm>
          <a:prstGeom prst="rect">
            <a:avLst/>
          </a:prstGeom>
          <a:ln w="0">
            <a:noFill/>
          </a:ln>
        </p:spPr>
      </p:pic>
      <p:sp>
        <p:nvSpPr>
          <p:cNvPr id="74" name="Пятно 1 4"/>
          <p:cNvSpPr/>
          <p:nvPr/>
        </p:nvSpPr>
        <p:spPr>
          <a:xfrm>
            <a:off x="2163600" y="587520"/>
            <a:ext cx="914400" cy="91440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cc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ТЫНШЫ ЕРЕЖ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91920" y="1449360"/>
            <a:ext cx="106614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лаларыңызды Интернетте біреу ренжіткен немесе агрессивті сөздерге, кінәлауға, балағаттауға тап болған жағдайда, оларды дұрыс әрекет етуге үйретіңіз. Оларға бұндай жағдайларды Сізге айтуы тиіс екенін және Сіз міндетті түрде көмектесетініңізді айтыңыз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ТІНШІ ЕРЕЖЕ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іздің үй компьютеріңізде сүзгілеу құралдарының орнатылғанына және дұрыс күйге келтірілгеніне көз жеткізіңіз. Бұл жерде Сізге интернет-қауіпсіздік саласындағы маман көмектеседі. Қажетсіз контентті бұғаттауға мүмкіндік беретін бақылау құралдары бар (мысалы, MNS Premium’s Parental Controls)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ятно 1 3"/>
          <p:cNvSpPr/>
          <p:nvPr/>
        </p:nvSpPr>
        <p:spPr>
          <a:xfrm>
            <a:off x="2063880" y="279360"/>
            <a:ext cx="914400" cy="91440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ятно 1 4"/>
          <p:cNvSpPr/>
          <p:nvPr/>
        </p:nvSpPr>
        <p:spPr>
          <a:xfrm>
            <a:off x="2063880" y="3186000"/>
            <a:ext cx="914400" cy="91440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3T05:24:18Z</dcterms:created>
  <dc:creator>Наталья</dc:creator>
  <dc:description/>
  <dc:language>en-US</dc:language>
  <cp:lastModifiedBy>28</cp:lastModifiedBy>
  <dcterms:modified xsi:type="dcterms:W3CDTF">2019-04-05T10:50:40Z</dcterms:modified>
  <cp:revision>417</cp:revision>
  <dc:subject/>
  <dc:title>Презентация PowerPoint</dc:title>
</cp:coreProperties>
</file>