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A6A-66D1-4A41-B99D-5DB392E9E73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264-F65D-4633-BBB2-28A9ECC6C064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4382-5A66-4808-BFC9-3C914D5DD8B2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334-4B54-4C8E-93F6-07325705F854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326-FC64-4890-B217-37CE0AD6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844-B5E0-4E52-A22F-EE635441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CF5-7079-46AA-9850-9141C298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486-7E14-4A8A-9107-E0FE69D5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F99-3085-44D5-A2B6-540007C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75C-DE98-4468-9695-9D3F085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3DD-1B72-4115-AFA4-00D67436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8DD-41B3-44DD-B633-7F0AE93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ED2-2C5F-48BC-BAC2-F9CACCC7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00C-36BE-4336-A425-EB97E0D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77A-B40C-4436-B5A5-EA551EC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A25-AF8D-443A-AEBB-20F420C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742-91C1-4685-AB21-2A693F416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74920" y="13068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ЗАҚСТАН РЕСПУБЛИКАСЫНЫҢ  БАЛА ҚҰҚЫҚТАРЫ ЖӨНІНДЕГІ  УӘКІ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3297240" y="781200"/>
            <a:ext cx="5334120" cy="2181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571840" y="785880"/>
            <a:ext cx="571320" cy="2095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0"/>
          <p:cNvSpPr/>
          <p:nvPr/>
        </p:nvSpPr>
        <p:spPr>
          <a:xfrm>
            <a:off x="3286080" y="1000080"/>
            <a:ext cx="526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зақстан Республикасы Президентінің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 наурыз  2016 жылғы  жарлығымен  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 ҚҰҚЫҚТАРЫ ЖӨНІНДЕГІ  УӘКІЛІ болып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Р Парламенті депутаты Зағипа Яхяновна Балиева тағайындал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971640" y="779400"/>
            <a:ext cx="1528560" cy="20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Rectangle 6"/>
          <p:cNvSpPr/>
          <p:nvPr/>
        </p:nvSpPr>
        <p:spPr>
          <a:xfrm>
            <a:off x="928800" y="286236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Впервые в истории отчечественного законодательста </a:t>
            </a:r>
            <a:r>
              <a:rPr b="1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статьей 1</a:t>
            </a:r>
            <a:r>
              <a:rPr b="0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 в Законе Республики Казахстан «О правах ребенка в Республике Казахстан» </a:t>
            </a:r>
            <a:r>
              <a:rPr b="1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закреплено понятие</a:t>
            </a:r>
            <a:r>
              <a:rPr b="0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 «Уполномоченный по правам ребенка», на которого возложены функции по обеспечению основных гарантий </a:t>
            </a:r>
            <a:r>
              <a:rPr b="0" i="1" lang="ru-RU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прав и законных интересов детей,</a:t>
            </a:r>
            <a:r>
              <a:rPr b="0" i="1" lang="kk-KZ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 также </a:t>
            </a:r>
            <a:r>
              <a:rPr b="0" i="1" lang="ru-RU" sz="1200" spc="-1" strike="noStrike">
                <a:solidFill>
                  <a:srgbClr val="0e1e20"/>
                </a:solidFill>
                <a:latin typeface="Century Gothic"/>
                <a:ea typeface="Arial"/>
              </a:rPr>
              <a:t>восстановлению их нарушенных прав и свобод во взаимодействии с государственными и общественными институ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928800" y="400068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2060"/>
                </a:solidFill>
                <a:latin typeface="Century Gothic"/>
                <a:ea typeface="Arial"/>
              </a:rPr>
              <a:t>Уполномоченный по правам ребенка рассматривает обращения, касающиеся нарушения прав, свобод и законных интересов ребенка, и жалобы на решения или действия</a:t>
            </a:r>
            <a:r>
              <a:rPr b="0" i="1" lang="kk-KZ" sz="1200" spc="-1" strike="noStrike">
                <a:solidFill>
                  <a:srgbClr val="002060"/>
                </a:solidFill>
                <a:latin typeface="Century Gothic"/>
                <a:ea typeface="Arial"/>
              </a:rPr>
              <a:t> (бездействие) государственных центральных и местных исполнительных органов и организаций, предприятий, их должностных лиц, нарушающих права, свободы и законные интересы ребенка и оказывает содействие их беспрепятственной реализации и восстано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857160" y="5287680"/>
            <a:ext cx="76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200" spc="-1" strike="noStrike">
                <a:solidFill>
                  <a:srgbClr val="6c0000"/>
                </a:solidFill>
                <a:latin typeface="Century Gothic"/>
                <a:ea typeface="Arial"/>
              </a:rPr>
              <a:t>Особенностью национальной модели Уполномоченного по правам ребенка в Республике Казахстан </a:t>
            </a:r>
            <a:r>
              <a:rPr b="1" i="1" lang="kk-KZ" sz="1200" spc="-1" strike="noStrike">
                <a:solidFill>
                  <a:srgbClr val="6c0000"/>
                </a:solidFill>
                <a:latin typeface="Century Gothic"/>
                <a:ea typeface="Arial"/>
              </a:rPr>
              <a:t>является совмещение  этой должности с депутатским манда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8"/>
          <p:cNvSpPr/>
          <p:nvPr/>
        </p:nvSpPr>
        <p:spPr>
          <a:xfrm>
            <a:off x="900000" y="5877000"/>
            <a:ext cx="76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c0000"/>
                </a:solidFill>
                <a:latin typeface="Century Gothic"/>
                <a:ea typeface="Arial"/>
              </a:rPr>
              <a:t>Депутатский статус предоставляет возможность Уполномоченному</a:t>
            </a:r>
            <a:r>
              <a:rPr b="1" i="1" lang="kk-KZ" sz="1400" spc="-1" strike="noStrike">
                <a:solidFill>
                  <a:srgbClr val="6c0000"/>
                </a:solidFill>
                <a:latin typeface="Century Gothic"/>
                <a:ea typeface="Arial"/>
              </a:rPr>
              <a:t> законодательной инициативы</a:t>
            </a:r>
            <a:r>
              <a:rPr b="0" i="1" lang="kk-KZ" sz="1400" spc="-1" strike="noStrike">
                <a:solidFill>
                  <a:srgbClr val="6c0000"/>
                </a:solidFill>
                <a:latin typeface="Century Gothic"/>
                <a:ea typeface="Arial"/>
              </a:rPr>
              <a:t> и оперативного внесения актуальных вопросов по правам детей для рассмотрения в Мажили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Users\www\Desktop\Нац.орнаменты\орнамент 11.jpg"/>
          <p:cNvPicPr/>
          <p:nvPr/>
        </p:nvPicPr>
        <p:blipFill>
          <a:blip r:embed="rId4"/>
          <a:stretch/>
        </p:blipFill>
        <p:spPr>
          <a:xfrm>
            <a:off x="0" y="-144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8" name="Picture 6" descr="C:\Users\www\Desktop\Нац.орнаменты\орнамент 11.jpg"/>
          <p:cNvPicPr/>
          <p:nvPr/>
        </p:nvPicPr>
        <p:blipFill>
          <a:blip r:embed="rId5"/>
          <a:stretch/>
        </p:blipFill>
        <p:spPr>
          <a:xfrm>
            <a:off x="0" y="274968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9" name="Picture 6" descr="C:\Users\www\Desktop\Нац.орнаменты\орнамент 11.jpg"/>
          <p:cNvPicPr/>
          <p:nvPr/>
        </p:nvPicPr>
        <p:blipFill>
          <a:blip r:embed="rId6"/>
          <a:srcRect l="0" t="0" r="0" b="50009"/>
          <a:stretch/>
        </p:blipFill>
        <p:spPr>
          <a:xfrm>
            <a:off x="0" y="5506920"/>
            <a:ext cx="826920" cy="136548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52360" y="130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Р БАЛА ҚҰҚЫҚТАРЫ ЖӨНІНДЕГІ  УӘКІ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ИТУТЫНЫҢ  ҚҰҚЫҚТЫҚ НЕГІЗ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ingekerbter Richtungspfeil 15"/>
          <p:cNvSpPr/>
          <p:nvPr/>
        </p:nvSpPr>
        <p:spPr>
          <a:xfrm>
            <a:off x="4500720" y="1125360"/>
            <a:ext cx="358560" cy="4030920"/>
          </a:xfrm>
          <a:custGeom>
            <a:avLst/>
            <a:gdLst>
              <a:gd name="textAreaLeft" fmla="*/ 0 w 358560"/>
              <a:gd name="textAreaRight" fmla="*/ 358560 w 358560"/>
              <a:gd name="textAreaTop" fmla="*/ 0 h 4030920"/>
              <a:gd name="textAreaBottom" fmla="*/ 4031280 h 403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34" y="0"/>
                </a:lnTo>
                <a:lnTo>
                  <a:pt x="21600" y="10800"/>
                </a:lnTo>
                <a:lnTo>
                  <a:pt x="5734" y="21600"/>
                </a:lnTo>
                <a:lnTo>
                  <a:pt x="0" y="21600"/>
                </a:lnTo>
                <a:lnTo>
                  <a:pt x="15866" y="10800"/>
                </a:lnTo>
                <a:close/>
              </a:path>
            </a:pathLst>
          </a:custGeom>
          <a:solidFill>
            <a:srgbClr val="1f497d"/>
          </a:solidFill>
          <a:ln w="9360">
            <a:solidFill>
              <a:srgbClr val="ffffff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4643280" y="104472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Бала құқықтары жөніндегі Уәкіл институтын құрудың басты мақсаты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5132520" y="1895400"/>
            <a:ext cx="3773520" cy="412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www\Desktop\Нац.орнаменты\орнамент 11.jpg"/>
          <p:cNvPicPr/>
          <p:nvPr/>
        </p:nvPicPr>
        <p:blipFill>
          <a:blip r:embed="rId2"/>
          <a:stretch/>
        </p:blipFill>
        <p:spPr>
          <a:xfrm>
            <a:off x="0" y="-144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65" name="Picture 6" descr="C:\Users\www\Desktop\Нац.орнаменты\орнамент 11.jpg"/>
          <p:cNvPicPr/>
          <p:nvPr/>
        </p:nvPicPr>
        <p:blipFill>
          <a:blip r:embed="rId3"/>
          <a:stretch/>
        </p:blipFill>
        <p:spPr>
          <a:xfrm>
            <a:off x="0" y="274968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66" name="Picture 6" descr="C:\Users\www\Desktop\Нац.орнаменты\орнамент 11.jpg"/>
          <p:cNvPicPr/>
          <p:nvPr/>
        </p:nvPicPr>
        <p:blipFill>
          <a:blip r:embed="rId4"/>
          <a:srcRect l="0" t="0" r="0" b="50009"/>
          <a:stretch/>
        </p:blipFill>
        <p:spPr>
          <a:xfrm>
            <a:off x="0" y="5506920"/>
            <a:ext cx="826920" cy="136548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67" name="Рисунок 1" descr=""/>
          <p:cNvPicPr/>
          <p:nvPr/>
        </p:nvPicPr>
        <p:blipFill>
          <a:blip r:embed="rId5"/>
          <a:stretch/>
        </p:blipFill>
        <p:spPr>
          <a:xfrm>
            <a:off x="826920" y="1125360"/>
            <a:ext cx="367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143000" y="1296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Р БАЛА ҚҰҚЫҚТАРЫ ЖӨНІНДЕГІ  УӘКІЛ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C:\Users\www\Desktop\Нац.орнаменты\орнамент 11.jpg"/>
          <p:cNvPicPr/>
          <p:nvPr/>
        </p:nvPicPr>
        <p:blipFill>
          <a:blip r:embed="rId1"/>
          <a:stretch/>
        </p:blipFill>
        <p:spPr>
          <a:xfrm>
            <a:off x="0" y="-144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0" name="Picture 6" descr="C:\Users\www\Desktop\Нац.орнаменты\орнамент 11.jpg"/>
          <p:cNvPicPr/>
          <p:nvPr/>
        </p:nvPicPr>
        <p:blipFill>
          <a:blip r:embed="rId2"/>
          <a:stretch/>
        </p:blipFill>
        <p:spPr>
          <a:xfrm>
            <a:off x="0" y="2749680"/>
            <a:ext cx="826920" cy="27288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1" name="Picture 6" descr="C:\Users\www\Desktop\Нац.орнаменты\орнамент 11.jpg"/>
          <p:cNvPicPr/>
          <p:nvPr/>
        </p:nvPicPr>
        <p:blipFill>
          <a:blip r:embed="rId3"/>
          <a:srcRect l="0" t="0" r="0" b="50009"/>
          <a:stretch/>
        </p:blipFill>
        <p:spPr>
          <a:xfrm>
            <a:off x="0" y="5506920"/>
            <a:ext cx="826920" cy="136548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72" name="TextBox 9"/>
          <p:cNvSpPr/>
          <p:nvPr/>
        </p:nvSpPr>
        <p:spPr>
          <a:xfrm>
            <a:off x="1571760" y="11430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2060"/>
                </a:solidFill>
                <a:latin typeface="Calibri"/>
                <a:ea typeface="Arial"/>
              </a:rPr>
              <a:t>Сайт</a:t>
            </a:r>
            <a:r>
              <a:rPr b="1" lang="kk-KZ" sz="1800" spc="-1" strike="noStrike">
                <a:solidFill>
                  <a:srgbClr val="002060"/>
                </a:solidFill>
                <a:latin typeface="Calibri"/>
                <a:ea typeface="Arial"/>
              </a:rPr>
              <a:t> :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  <a:ea typeface="Arial"/>
              </a:rPr>
              <a:t>www.balaombudsman.k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643040" y="20001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Arial"/>
              </a:rPr>
              <a:t>email</a:t>
            </a:r>
            <a:r>
              <a:rPr b="1" lang="kk-KZ" sz="1800" spc="-1" strike="noStrike">
                <a:solidFill>
                  <a:srgbClr val="002060"/>
                </a:solidFill>
                <a:latin typeface="Calibri"/>
                <a:ea typeface="Arial"/>
              </a:rPr>
              <a:t> :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  <a:ea typeface="Arial"/>
              </a:rPr>
              <a:t>balaombudsman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:\Users\User\Desktop\Рисунок1.png"/>
          <p:cNvPicPr/>
          <p:nvPr/>
        </p:nvPicPr>
        <p:blipFill>
          <a:blip r:embed="rId4"/>
          <a:stretch/>
        </p:blipFill>
        <p:spPr>
          <a:xfrm>
            <a:off x="1357200" y="2828880"/>
            <a:ext cx="2928960" cy="322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User\Desktop\Рисунок2.png"/>
          <p:cNvPicPr/>
          <p:nvPr/>
        </p:nvPicPr>
        <p:blipFill>
          <a:blip r:embed="rId5"/>
          <a:stretch/>
        </p:blipFill>
        <p:spPr>
          <a:xfrm>
            <a:off x="5114880" y="2643120"/>
            <a:ext cx="29574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3T07:02:05Z</dcterms:created>
  <dc:creator>www</dc:creator>
  <dc:description/>
  <dc:language>en-US</dc:language>
  <cp:lastModifiedBy>Гимназия</cp:lastModifiedBy>
  <cp:lastPrinted>2017-11-23T11:54:38Z</cp:lastPrinted>
  <dcterms:modified xsi:type="dcterms:W3CDTF">2017-11-23T11:55:06Z</dcterms:modified>
  <cp:revision>35</cp:revision>
  <dc:subject/>
  <dc:title>Презентация PowerPoint</dc:title>
</cp:coreProperties>
</file>