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9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F492-1F2D-4F36-A375-2DD4AD9D5A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3F1D-2379-419C-853B-1E9568F7F4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05B-0A2F-4E73-9EC4-A8DA0A98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3BC-C50C-4910-9E17-AF52C53D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498E-79F0-4D42-BEC2-3A4599AD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157-774B-49AE-9B4C-EDBB089B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B27B-3680-4171-8A34-84DC0CAC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8A53-4814-4C3D-AE43-2A427AD5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198F-557E-4F3B-B1FB-4D1A108D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C8D1-7C84-4F5D-B633-9035371C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3C0B-D77C-4D05-8E4B-9C4B8789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77CA-5EF3-4DFF-AF91-F8C572D3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79EA-A0AF-4C39-90D6-30685795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2D4-3316-4BBC-BFED-10C4E18F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5F17-4B5E-43A8-868F-836E6009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ED14-D628-45C8-BE49-B25C20A5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ACEA-9280-44CE-B8CE-5D49176B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2348-740A-45F3-B07F-818E5CDD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44FC-4D20-4DB5-ADFA-1A90D2F4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8D66E-0296-4DE1-9D3A-75B787F2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2FC89-379F-445D-A645-F911FF2D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10A7E-6A78-4D17-93A9-5297D56E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79CE6-BBAE-4D4B-A965-30BD678C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82BCF-D887-429A-87A6-AE6B041E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51E-176A-49FE-B9F6-2BB6577D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77393-8143-4AC6-A7C0-09B2F368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082039-DF35-45CF-8BDA-371B2CCF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3ACA7-A852-4EEE-B824-C876FA54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27412-D541-443E-A239-89F9CCCD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D41715-4537-4C45-9BE4-DEBDC979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F9D26-D09B-4563-ADD4-A676C63C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83D510-2F78-4521-8DF7-8B434487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43516B-F04B-4509-82B7-421E310F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64A43-7994-4C31-AC0D-9BE86122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2800F1-98BA-4839-AD10-87CEA8C7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8637-3629-4E15-8002-18DDA02B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2EC9D8-9FD0-405D-A7B3-74CC3223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1EE23F-14C9-4DD6-9890-FD3B8AB9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6CF5E0-1475-463D-94B0-E665EB4A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C8E3FD-13BD-4939-BDB7-0D01D453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8B96C0-665E-4D68-A9DF-D0F2A7D9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1BEA05-8F40-452D-BDDB-6506447B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A5F0D7-349C-4393-9E18-D0C852C3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673535-3C99-4978-84B3-CBBEDFB0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9F648E-C8EA-43D3-972A-C93C7DC7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A55DB-1CE1-4B1F-A6B3-8E25503C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55C-54E3-47F8-9468-2371FB83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15B5DA-DAD9-43EC-8361-DD3E8693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95F327-B2C3-4AB3-8E18-23B78EF0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CC167-B90F-45D3-8628-25982FE8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C76F80-175F-4AAB-91CE-55382BFA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F9CC4-9FDC-45EC-98DB-BB121175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BCFDD7-2F7A-4BDC-A6AE-BE888D2D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529A9D-D463-498C-B46C-C6C51A6C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FB3367-348A-4823-A6AF-C8C71CB5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ED6253-0A7E-4274-9785-F9104C2E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A87299-8F67-4394-AE2A-34F549D7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340-260B-4C5B-93F7-3660182C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9ABF2-0A0A-4716-8E52-7E4F6BA9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20A49-4311-4285-A0F3-03D1A74E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157C9-1BC5-4C99-877D-781D0827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331F6-477B-4C11-8ABF-E27673F2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9079E-57B0-4E07-9DB9-46A6ED5D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4A0FD-2033-4E47-A1BF-2373240B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AC2F3-5ACD-4CB8-B254-A8DC4E78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B5AD4-A0C2-4BFF-84BA-DA635955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6403A-0892-48C3-8C54-D421BEA5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08BA3-CFDE-46FE-ADBC-6083BFB4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503-EE90-4330-AEF7-D6A63E1F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49ED7-BB47-4EFB-B374-3E51A944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483F4-E895-46FB-B089-CDF53451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25CC7-A0A6-4B4E-BACE-10DC7AA9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504EC2-318E-4D5F-8F9E-079A77AA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1DF66E-65CC-4902-8F70-08A16DA5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7C6AAE-340A-411F-AB16-0B0B9B97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0A4060-E1D7-4227-838B-E74A0972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951B5F-E7F5-4F71-B190-1070D209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F98247-3E95-4FFE-99C8-F6D2356E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98BBD7-DC57-4210-B58F-ED9001E9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ED2-181B-4D9A-A768-B996C596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9A074F-0EC5-4C8B-941D-96365916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885CD7-BD43-4C12-8F22-6905F2BA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D24EB5-ED31-49C1-BA72-35D0CD0C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2826DF-D690-4760-A0D7-BC29365A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22B9F1-666A-4CF9-96B7-C462EF37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44565-64F9-4C3A-B095-ADD0B3AE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65853-A4C4-4CF8-ABBC-8D50EB51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2B1B1-6A8C-46C5-87B3-2C7AFC8C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F693A-7743-4932-AF89-B2658E21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4151A-60B0-43F3-BF03-CBEBE84B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447-1D05-4DEC-BDEB-C8DDE5FC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832B3-D41D-40BA-90AA-66A5E4A5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A1D00-7B01-4787-80D3-87D04D8D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CCB22-1BBF-426F-8427-A8AE857F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77B2C-EAC4-4B80-85CE-8675E355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C394E-BB75-4D01-ABCB-42CECAE7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7BC3F-BD68-4E2B-8190-B8077482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C49FA-648C-4433-B7BA-BF1FC998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C58D-A149-4AC5-BE45-4BD22097885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323232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A37A-FBE3-436B-B711-D1FFAE15A085}" type="slidenum">
              <a:rPr b="1" lang="ru-RU" sz="1400" spc="-1" strike="noStrike">
                <a:solidFill>
                  <a:srgbClr val="323232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4CA7-BCE2-43BF-BE64-3914CE533FCB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64E6-0146-46D4-93D1-169E4DB21C7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A757-7BA6-488E-B70B-10D37F9998F4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323232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8B61-D555-4BD3-BB8B-E282227FF512}" type="slidenum">
              <a:rPr b="1" lang="ru-RU" sz="1400" spc="-1" strike="noStrike">
                <a:solidFill>
                  <a:srgbClr val="323232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B3FC-BB6D-4A68-8317-08345247ED6C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00A5-4E23-4535-8081-2ACEC17F7FF2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6"/>
          <p:cNvSpPr/>
          <p:nvPr/>
        </p:nvSpPr>
        <p:spPr>
          <a:xfrm>
            <a:off x="1071720" y="1785960"/>
            <a:ext cx="7143480" cy="4000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785520" y="1928520"/>
            <a:ext cx="756108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entury Gothic"/>
              </a:rPr>
              <a:t>Всеказахстанский урок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 Gothic"/>
              </a:rPr>
              <a:t>«ДОВЕРИЕ 111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4" descr="C:\Users\User\Desktop\Искак\Логотипы\ЛОГО тел доверия 1.jpg"/>
          <p:cNvPicPr/>
          <p:nvPr/>
        </p:nvPicPr>
        <p:blipFill>
          <a:blip r:embed="rId1"/>
          <a:stretch/>
        </p:blipFill>
        <p:spPr>
          <a:xfrm>
            <a:off x="7286760" y="214200"/>
            <a:ext cx="928440" cy="930240"/>
          </a:xfrm>
          <a:prstGeom prst="rect">
            <a:avLst/>
          </a:prstGeom>
          <a:ln w="0">
            <a:noFill/>
          </a:ln>
        </p:spPr>
      </p:pic>
      <p:sp>
        <p:nvSpPr>
          <p:cNvPr id="360" name="TextBox 3"/>
          <p:cNvSpPr/>
          <p:nvPr/>
        </p:nvSpPr>
        <p:spPr>
          <a:xfrm>
            <a:off x="1428840" y="42876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2060"/>
                </a:solidFill>
                <a:latin typeface="Century Gothic"/>
              </a:rPr>
              <a:t>Уполномоченный по правам ребе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2060"/>
                </a:solidFill>
                <a:latin typeface="Century Gothic"/>
              </a:rPr>
              <a:t>в Республике Казах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Рисунок 4" descr=""/>
          <p:cNvPicPr/>
          <p:nvPr/>
        </p:nvPicPr>
        <p:blipFill>
          <a:blip r:embed="rId2"/>
          <a:stretch/>
        </p:blipFill>
        <p:spPr>
          <a:xfrm>
            <a:off x="714240" y="14292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C:\Users\User\Downloads\УПР (1).jpg"/>
          <p:cNvPicPr/>
          <p:nvPr/>
        </p:nvPicPr>
        <p:blipFill>
          <a:blip r:embed="rId3"/>
          <a:stretch/>
        </p:blipFill>
        <p:spPr>
          <a:xfrm>
            <a:off x="2206800" y="3425760"/>
            <a:ext cx="48956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14720" y="228600"/>
            <a:ext cx="655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Century Gothic"/>
              </a:rPr>
              <a:t>На что обратить внимание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79280" y="1600200"/>
            <a:ext cx="8586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ru-RU" sz="2200" spc="-1" strike="noStrike">
                <a:solidFill>
                  <a:srgbClr val="000066"/>
                </a:solidFill>
                <a:latin typeface="Century Gothic"/>
              </a:rPr>
              <a:t>. Основными блоками занятия являются интерактивные бло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Century Gothic"/>
              </a:rPr>
              <a:t>«Да, Нет, Не знаю» 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66"/>
                </a:solidFill>
                <a:uFillTx/>
                <a:latin typeface="Century Gothic"/>
              </a:rPr>
              <a:t>В данных упражнениях ведущему важно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Century Gothic"/>
              </a:rPr>
              <a:t>задавать активную динамику дискусс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Century Gothic"/>
              </a:rPr>
              <a:t>лимитировать время, отведенное на ответы участнико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Century Gothic"/>
              </a:rPr>
              <a:t>в случае затягивания времени передавать слово другому участник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Century Gothic"/>
              </a:rPr>
              <a:t>вовлекать в обсуждение малоактивных ученик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Century Gothic"/>
              </a:rPr>
              <a:t>важно благодарить активных участников за работу, но подчеркивать значимость участия каждог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4" descr="C:\Users\User\Desktop\Искак\Логотипы\ЛОГО тел доверия 1.jpg"/>
          <p:cNvPicPr/>
          <p:nvPr/>
        </p:nvPicPr>
        <p:blipFill>
          <a:blip r:embed="rId1"/>
          <a:stretch/>
        </p:blipFill>
        <p:spPr>
          <a:xfrm>
            <a:off x="428760" y="214200"/>
            <a:ext cx="1009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Рекомендации по проведению упражнения «Да, Нет, Не знаю»</a:t>
            </a:r>
            <a:endParaRPr b="0" lang="en-US" sz="4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24000" y="1790280"/>
            <a:ext cx="8442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entury Gothic"/>
              </a:rPr>
              <a:t>В начале упражнения предлагаем </a:t>
            </a:r>
            <a:r>
              <a:rPr b="1" lang="ru-RU" sz="1800" spc="-1" strike="noStrike">
                <a:solidFill>
                  <a:srgbClr val="000066"/>
                </a:solidFill>
                <a:latin typeface="Century Gothic"/>
              </a:rPr>
              <a:t>вопросы на знание </a:t>
            </a:r>
            <a:r>
              <a:rPr b="0" lang="ru-RU" sz="1800" spc="-1" strike="noStrike">
                <a:solidFill>
                  <a:srgbClr val="000066"/>
                </a:solidFill>
                <a:latin typeface="Century Gothic"/>
              </a:rPr>
              <a:t>участниками информации о телефоне доверия, после </a:t>
            </a:r>
            <a:r>
              <a:rPr b="1" lang="ru-RU" sz="1800" spc="-1" strike="noStrike">
                <a:solidFill>
                  <a:srgbClr val="000066"/>
                </a:solidFill>
                <a:latin typeface="Century Gothic"/>
              </a:rPr>
              <a:t>вопросы на отношение </a:t>
            </a:r>
            <a:r>
              <a:rPr b="0" lang="ru-RU" sz="1800" spc="-1" strike="noStrike">
                <a:solidFill>
                  <a:srgbClr val="000066"/>
                </a:solidFill>
                <a:latin typeface="Century Gothic"/>
              </a:rPr>
              <a:t>к проблем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entury Gothic"/>
              </a:rPr>
              <a:t>После выбора ответа детьми, с каждой группой  </a:t>
            </a:r>
            <a:r>
              <a:rPr b="1" lang="ru-RU" sz="1800" spc="-1" strike="noStrike">
                <a:solidFill>
                  <a:srgbClr val="000066"/>
                </a:solidFill>
                <a:latin typeface="Century Gothic"/>
              </a:rPr>
              <a:t>проводится короткий интерактив </a:t>
            </a:r>
            <a:r>
              <a:rPr b="0" lang="ru-RU" sz="1800" spc="-1" strike="noStrike">
                <a:solidFill>
                  <a:srgbClr val="000066"/>
                </a:solidFill>
                <a:latin typeface="Century Gothic"/>
              </a:rPr>
              <a:t>с уточнением их мнения и сделанного выб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Century Gothic"/>
              </a:rPr>
              <a:t>Ведущий резюмирует ответы детей</a:t>
            </a:r>
            <a:r>
              <a:rPr b="0" lang="ru-RU" sz="1800" spc="-1" strike="noStrike">
                <a:solidFill>
                  <a:srgbClr val="000066"/>
                </a:solidFill>
                <a:latin typeface="Century Gothic"/>
              </a:rPr>
              <a:t>. Дает краткую информацию по т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entury Gothic"/>
              </a:rPr>
              <a:t>Важно поддержать выбор детей </a:t>
            </a:r>
            <a:r>
              <a:rPr b="0" lang="ru-RU" sz="1800" spc="-1" strike="noStrike">
                <a:solidFill>
                  <a:srgbClr val="000066"/>
                </a:solidFill>
                <a:latin typeface="Century Gothic"/>
              </a:rPr>
              <a:t>и проявить уважение к их позиции, даже если она не будет соответствовать ожиданиям ведущего или мнению большинства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entury Gothic"/>
              </a:rPr>
              <a:t>Если обсуждение занимает больше времени, чем отведено на данное упражнение, то </a:t>
            </a:r>
            <a:r>
              <a:rPr b="1" lang="ru-RU" sz="1800" spc="-1" strike="noStrike">
                <a:solidFill>
                  <a:srgbClr val="000066"/>
                </a:solidFill>
                <a:latin typeface="Century Gothic"/>
              </a:rPr>
              <a:t>часть вопросов можно пропустить</a:t>
            </a:r>
            <a:r>
              <a:rPr b="0" lang="ru-RU" sz="1800" spc="-1" strike="noStrike">
                <a:solidFill>
                  <a:srgbClr val="000066"/>
                </a:solidFill>
                <a:latin typeface="Century Gothic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entury Gothic"/>
              </a:rPr>
              <a:t>Рекомендации к проведению упражнения «Свеча доверия»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50560" y="1600200"/>
            <a:ext cx="8515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entury Gothic"/>
              </a:rPr>
              <a:t>Важно </a:t>
            </a: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уделить особое внимание технике безопасности </a:t>
            </a:r>
            <a:r>
              <a:rPr b="0" lang="ru-RU" sz="1800" spc="-1" strike="noStrike">
                <a:solidFill>
                  <a:srgbClr val="000066"/>
                </a:solidFill>
                <a:latin typeface="Century Gothic"/>
              </a:rPr>
              <a:t>во время проведения упраж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entury Gothic"/>
              </a:rPr>
              <a:t>Перед групповой работой </a:t>
            </a:r>
            <a:r>
              <a:rPr b="1" lang="ru-RU" sz="1800" spc="-1" strike="noStrike">
                <a:solidFill>
                  <a:srgbClr val="000066"/>
                </a:solidFill>
                <a:latin typeface="Century Gothic"/>
              </a:rPr>
              <a:t>провести демонстрацию</a:t>
            </a:r>
            <a:r>
              <a:rPr b="0" lang="ru-RU" sz="1800" spc="-1" strike="noStrike">
                <a:solidFill>
                  <a:srgbClr val="000066"/>
                </a:solidFill>
                <a:latin typeface="Century Gothic"/>
              </a:rPr>
              <a:t>, объяснить правила выпол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entury Gothic"/>
              </a:rPr>
              <a:t>Во время выполнения упражнения участниками </a:t>
            </a:r>
            <a:r>
              <a:rPr b="1" lang="ru-RU" sz="1800" spc="-1" strike="noStrike">
                <a:solidFill>
                  <a:srgbClr val="000066"/>
                </a:solidFill>
                <a:latin typeface="Century Gothic"/>
              </a:rPr>
              <a:t>отслеживать каждую мини-групп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entury Gothic"/>
              </a:rPr>
              <a:t>В завершении упражнения провести </a:t>
            </a:r>
            <a:r>
              <a:rPr b="1" lang="ru-RU" sz="1800" spc="-1" strike="noStrike">
                <a:solidFill>
                  <a:srgbClr val="000066"/>
                </a:solidFill>
                <a:latin typeface="Century Gothic"/>
              </a:rPr>
              <a:t>сбор обратной связ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entury Gothic"/>
              </a:rPr>
              <a:t>Подчеркнуть значимость полученного опыта </a:t>
            </a:r>
            <a:r>
              <a:rPr b="0" lang="ru-RU" sz="1800" spc="-1" strike="noStrike">
                <a:solidFill>
                  <a:srgbClr val="000066"/>
                </a:solidFill>
                <a:latin typeface="Century Gothic"/>
              </a:rPr>
              <a:t>проявления доверия в безопасной обстанов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4" descr="C:\Users\User\Desktop\Искак\Логотипы\ЛОГО тел доверия 1.jpg"/>
          <p:cNvPicPr/>
          <p:nvPr/>
        </p:nvPicPr>
        <p:blipFill>
          <a:blip r:embed="rId1"/>
          <a:stretch/>
        </p:blipFill>
        <p:spPr>
          <a:xfrm>
            <a:off x="428760" y="214200"/>
            <a:ext cx="1009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57280" y="228600"/>
            <a:ext cx="64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entury Gothic"/>
              </a:rPr>
              <a:t>Упражнение на доверие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66"/>
                </a:solidFill>
                <a:latin typeface="Century Gothic"/>
              </a:rPr>
              <a:t>Упражнение «Свеча доверия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entury Gothic"/>
              </a:rPr>
              <a:t>Задачи упражн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66"/>
                </a:solidFill>
                <a:latin typeface="Century Gothic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Century Gothic"/>
              </a:rPr>
              <a:t>Помочь участникам понять самих себя</a:t>
            </a:r>
            <a:r>
              <a:rPr b="0" lang="ru-RU" sz="2500" spc="-1" strike="noStrike">
                <a:solidFill>
                  <a:srgbClr val="000066"/>
                </a:solidFill>
                <a:latin typeface="Century Gothic"/>
              </a:rPr>
              <a:t>: насколько они доверяют окружающим, легко ли им положиться на других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Century Gothic"/>
              </a:rPr>
              <a:t>Создать условия для получения подростками безопасного опыта проявления доверия</a:t>
            </a:r>
            <a:r>
              <a:rPr b="0" lang="ru-RU" sz="2500" spc="-1" strike="noStrike">
                <a:solidFill>
                  <a:srgbClr val="000066"/>
                </a:solidFill>
                <a:latin typeface="Century Gothic"/>
              </a:rPr>
              <a:t>,  переосмысления своего отношения к доверию, повышению уровня доверия к други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4" descr="C:\Users\User\Desktop\Искак\Логотипы\ЛОГО тел доверия 1.jpg"/>
          <p:cNvPicPr/>
          <p:nvPr/>
        </p:nvPicPr>
        <p:blipFill>
          <a:blip r:embed="rId1"/>
          <a:stretch/>
        </p:blipFill>
        <p:spPr>
          <a:xfrm>
            <a:off x="428760" y="214200"/>
            <a:ext cx="1009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2876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Segoe UI Semibold"/>
              </a:rPr>
              <a:t>Информация о телефоне довер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41600" y="228600"/>
            <a:ext cx="6245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Segoe UI Semibold"/>
              </a:rPr>
              <a:t>Рекомендации по проведению информационного этапа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24000" y="1600200"/>
            <a:ext cx="8442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entury Gothic"/>
              </a:rPr>
              <a:t>1.Используйте презентацию «Всеказахстанский урок Доверие 111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entury Gothic"/>
              </a:rPr>
              <a:t>2. Кратко изложите содержание каждого слай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entury Gothic"/>
              </a:rPr>
              <a:t>3. </a:t>
            </a:r>
            <a:r>
              <a:rPr b="0" lang="ru-RU" sz="2000" spc="-1" strike="noStrike" u="sng">
                <a:solidFill>
                  <a:srgbClr val="000066"/>
                </a:solidFill>
                <a:uFillTx/>
                <a:latin typeface="Century Gothic"/>
              </a:rPr>
              <a:t>Особое внимание необходимо удели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Gothic"/>
              </a:rPr>
              <a:t>принципам работы телефона дове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entury Gothic"/>
              </a:rPr>
              <a:t>и </a:t>
            </a:r>
            <a:r>
              <a:rPr b="1" lang="ru-RU" sz="2000" spc="-1" strike="noStrike">
                <a:solidFill>
                  <a:srgbClr val="000066"/>
                </a:solidFill>
                <a:latin typeface="Century Gothic"/>
              </a:rPr>
              <a:t>рассказать участникам о сайтах</a:t>
            </a:r>
            <a:r>
              <a:rPr b="0" lang="ru-RU" sz="2000" spc="-1" strike="noStrike">
                <a:solidFill>
                  <a:srgbClr val="000066"/>
                </a:solidFill>
                <a:latin typeface="Century Gothic"/>
              </a:rPr>
              <a:t>, на которых можно получить информацию о телефоне довер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entury Gothic"/>
              </a:rPr>
              <a:t>предложить 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сохранить номер Телефона доверия </a:t>
            </a:r>
            <a:r>
              <a:rPr b="0" lang="ru-RU" sz="2000" spc="-1" strike="noStrike">
                <a:solidFill>
                  <a:srgbClr val="000066"/>
                </a:solidFill>
                <a:latin typeface="Century Gothic"/>
              </a:rPr>
              <a:t>в свои телефон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4" descr="C:\Users\User\Desktop\Искак\Логотипы\ЛОГО тел доверия 1.jpg"/>
          <p:cNvPicPr/>
          <p:nvPr/>
        </p:nvPicPr>
        <p:blipFill>
          <a:blip r:embed="rId1"/>
          <a:stretch/>
        </p:blipFill>
        <p:spPr>
          <a:xfrm>
            <a:off x="428760" y="214200"/>
            <a:ext cx="1009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entury Gothic"/>
              </a:rPr>
              <a:t>Информационный этап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24000" y="1599840"/>
            <a:ext cx="8442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Задачи информационного эта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Gothic"/>
              </a:rPr>
              <a:t>обобщить ответы участников </a:t>
            </a:r>
            <a:r>
              <a:rPr b="0" lang="ru-RU" sz="2800" spc="-1" strike="noStrike">
                <a:solidFill>
                  <a:srgbClr val="000066"/>
                </a:solidFill>
                <a:latin typeface="Century Gothic"/>
              </a:rPr>
              <a:t>и выводы к которым они пришли во время выполнения упражн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Gothic"/>
              </a:rPr>
              <a:t>придать полученной информации  более </a:t>
            </a:r>
            <a:r>
              <a:rPr b="1" lang="ru-RU" sz="2800" spc="-1" strike="noStrike">
                <a:solidFill>
                  <a:srgbClr val="000066"/>
                </a:solidFill>
                <a:latin typeface="Century Gothic"/>
              </a:rPr>
              <a:t>четкую структу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Gothic"/>
              </a:rPr>
              <a:t>повысить уровень доверия </a:t>
            </a:r>
            <a:r>
              <a:rPr b="0" lang="ru-RU" sz="2800" spc="-1" strike="noStrike">
                <a:solidFill>
                  <a:srgbClr val="000066"/>
                </a:solidFill>
                <a:latin typeface="Century Gothic"/>
              </a:rPr>
              <a:t>участников к служб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Gothic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Century Gothic"/>
              </a:rPr>
              <a:t>телефона довер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4" descr="C:\Users\User\Desktop\Искак\Логотипы\ЛОГО тел доверия 1.jpg"/>
          <p:cNvPicPr/>
          <p:nvPr/>
        </p:nvPicPr>
        <p:blipFill>
          <a:blip r:embed="rId1"/>
          <a:stretch/>
        </p:blipFill>
        <p:spPr>
          <a:xfrm>
            <a:off x="428760" y="214200"/>
            <a:ext cx="1009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3"/>
          <p:cNvSpPr/>
          <p:nvPr/>
        </p:nvSpPr>
        <p:spPr>
          <a:xfrm>
            <a:off x="684360" y="1722600"/>
            <a:ext cx="3292200" cy="226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4"/>
          <p:cNvSpPr/>
          <p:nvPr/>
        </p:nvSpPr>
        <p:spPr>
          <a:xfrm>
            <a:off x="674640" y="3129120"/>
            <a:ext cx="3301920" cy="863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5"/>
          <p:cNvSpPr/>
          <p:nvPr/>
        </p:nvSpPr>
        <p:spPr>
          <a:xfrm>
            <a:off x="5160960" y="1714680"/>
            <a:ext cx="3292560" cy="22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6"/>
          <p:cNvSpPr/>
          <p:nvPr/>
        </p:nvSpPr>
        <p:spPr>
          <a:xfrm>
            <a:off x="5151600" y="3119400"/>
            <a:ext cx="3301920" cy="863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7"/>
          <p:cNvSpPr/>
          <p:nvPr/>
        </p:nvSpPr>
        <p:spPr>
          <a:xfrm>
            <a:off x="5153040" y="4276800"/>
            <a:ext cx="3294000" cy="227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8"/>
          <p:cNvSpPr/>
          <p:nvPr/>
        </p:nvSpPr>
        <p:spPr>
          <a:xfrm>
            <a:off x="5145120" y="5683320"/>
            <a:ext cx="3301920" cy="863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9"/>
          <p:cNvSpPr/>
          <p:nvPr/>
        </p:nvSpPr>
        <p:spPr>
          <a:xfrm>
            <a:off x="650880" y="4305240"/>
            <a:ext cx="3294000" cy="226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10"/>
          <p:cNvSpPr/>
          <p:nvPr/>
        </p:nvSpPr>
        <p:spPr>
          <a:xfrm>
            <a:off x="642960" y="5710320"/>
            <a:ext cx="3301920" cy="863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666720" y="3367080"/>
            <a:ext cx="28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РОФЕССИОНАЛ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4"/>
          <p:cNvSpPr/>
          <p:nvPr/>
        </p:nvSpPr>
        <p:spPr>
          <a:xfrm>
            <a:off x="5160960" y="3301920"/>
            <a:ext cx="2743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entury Gothic"/>
              </a:rPr>
              <a:t>АНОНИМНОСТЬ И КОНФИДЕНЦИАЛЬНОС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5"/>
          <p:cNvSpPr/>
          <p:nvPr/>
        </p:nvSpPr>
        <p:spPr>
          <a:xfrm>
            <a:off x="5407200" y="5929200"/>
            <a:ext cx="22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ДОСТУП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6"/>
          <p:cNvSpPr/>
          <p:nvPr/>
        </p:nvSpPr>
        <p:spPr>
          <a:xfrm>
            <a:off x="714240" y="5964120"/>
            <a:ext cx="28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БЕСПЛА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7"/>
          <p:cNvSpPr/>
          <p:nvPr/>
        </p:nvSpPr>
        <p:spPr>
          <a:xfrm>
            <a:off x="7122960" y="5783400"/>
            <a:ext cx="28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БЕЗОПАС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18"/>
          <p:cNvSpPr/>
          <p:nvPr/>
        </p:nvSpPr>
        <p:spPr>
          <a:xfrm>
            <a:off x="712800" y="1847880"/>
            <a:ext cx="319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entury Gothic"/>
              </a:rPr>
              <a:t>На телефоне доверия работают профессиональные психологи, юристы, прошедшие специаль-ное обу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9"/>
          <p:cNvSpPr/>
          <p:nvPr/>
        </p:nvSpPr>
        <p:spPr>
          <a:xfrm>
            <a:off x="5237280" y="1847880"/>
            <a:ext cx="3225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Century Gothic"/>
              </a:rPr>
              <a:t>Тот, кто обращается за помощью, может сохранить свое имя в тайне. О содержании разговора будет знать только звонящий и консульт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20"/>
          <p:cNvSpPr/>
          <p:nvPr/>
        </p:nvSpPr>
        <p:spPr>
          <a:xfrm>
            <a:off x="5195880" y="4411800"/>
            <a:ext cx="319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entury Gothic"/>
              </a:rPr>
              <a:t>Помощь оказывается ежедневно и  круглосуточно. Звонки прини-маются со всех регионов Казахст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21"/>
          <p:cNvSpPr/>
          <p:nvPr/>
        </p:nvSpPr>
        <p:spPr>
          <a:xfrm>
            <a:off x="665280" y="4660920"/>
            <a:ext cx="32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Century Gothic"/>
              </a:rPr>
              <a:t>Помощь всегда предоставляется бесплатно с любого телефона /мобильный, стационарный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23" descr=""/>
          <p:cNvPicPr/>
          <p:nvPr/>
        </p:nvPicPr>
        <p:blipFill>
          <a:blip r:embed="rId1"/>
          <a:stretch/>
        </p:blipFill>
        <p:spPr>
          <a:xfrm>
            <a:off x="7632720" y="5742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24" descr=""/>
          <p:cNvPicPr/>
          <p:nvPr/>
        </p:nvPicPr>
        <p:blipFill>
          <a:blip r:embed="rId2"/>
          <a:stretch/>
        </p:blipFill>
        <p:spPr>
          <a:xfrm>
            <a:off x="3114720" y="3176640"/>
            <a:ext cx="780840" cy="7621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25" descr=""/>
          <p:cNvPicPr/>
          <p:nvPr/>
        </p:nvPicPr>
        <p:blipFill>
          <a:blip r:embed="rId3"/>
          <a:stretch/>
        </p:blipFill>
        <p:spPr>
          <a:xfrm>
            <a:off x="7607160" y="3213000"/>
            <a:ext cx="773280" cy="69084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26" descr=""/>
          <p:cNvPicPr/>
          <p:nvPr/>
        </p:nvPicPr>
        <p:blipFill>
          <a:blip r:embed="rId4"/>
          <a:stretch/>
        </p:blipFill>
        <p:spPr>
          <a:xfrm>
            <a:off x="2955960" y="5754600"/>
            <a:ext cx="768240" cy="7621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00320" y="228600"/>
            <a:ext cx="4765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000066"/>
                </a:solidFill>
                <a:latin typeface="Century Gothic"/>
              </a:rPr>
              <a:t>Принципы работы 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Century Gothic"/>
              </a:rPr>
              <a:t> телефона доверия</a:t>
            </a:r>
            <a:br>
              <a:rPr sz="3600"/>
            </a:b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28" name="Picture 4" descr="C:\Users\User\Desktop\Искак\Логотипы\ЛОГО тел доверия 1.jpg"/>
          <p:cNvPicPr/>
          <p:nvPr/>
        </p:nvPicPr>
        <p:blipFill>
          <a:blip r:embed="rId5"/>
          <a:stretch/>
        </p:blipFill>
        <p:spPr>
          <a:xfrm>
            <a:off x="428760" y="214200"/>
            <a:ext cx="1009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Заголовок 1"/>
          <p:cNvSpPr/>
          <p:nvPr/>
        </p:nvSpPr>
        <p:spPr>
          <a:xfrm>
            <a:off x="3000240" y="214200"/>
            <a:ext cx="5929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entury Gothic"/>
              </a:rPr>
              <a:t>Работа  телефона доверия направлена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2" descr="C:\Users\Наталья\Desktop\телефон доверия\картинки\images (12).jpg"/>
          <p:cNvPicPr/>
          <p:nvPr/>
        </p:nvPicPr>
        <p:blipFill>
          <a:blip r:embed="rId1"/>
          <a:stretch/>
        </p:blipFill>
        <p:spPr>
          <a:xfrm>
            <a:off x="250920" y="1916280"/>
            <a:ext cx="2685960" cy="1704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C:\Users\Наталья\Desktop\телефон доверия\картинки\images (15).jpg"/>
          <p:cNvPicPr/>
          <p:nvPr/>
        </p:nvPicPr>
        <p:blipFill>
          <a:blip r:embed="rId2"/>
          <a:stretch/>
        </p:blipFill>
        <p:spPr>
          <a:xfrm>
            <a:off x="250920" y="3933720"/>
            <a:ext cx="2665440" cy="2381400"/>
          </a:xfrm>
          <a:prstGeom prst="rect">
            <a:avLst/>
          </a:prstGeom>
          <a:ln w="0">
            <a:noFill/>
          </a:ln>
        </p:spPr>
      </p:pic>
      <p:sp>
        <p:nvSpPr>
          <p:cNvPr id="432" name="Скругленный прямоугольник 10"/>
          <p:cNvSpPr/>
          <p:nvPr/>
        </p:nvSpPr>
        <p:spPr>
          <a:xfrm>
            <a:off x="3348000" y="2133720"/>
            <a:ext cx="5400720" cy="148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Gothic"/>
              </a:rPr>
              <a:t>разрешение тяжелых эмоциональных переживаний детей и подрос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ый прямоугольник 11"/>
          <p:cNvSpPr/>
          <p:nvPr/>
        </p:nvSpPr>
        <p:spPr>
          <a:xfrm>
            <a:off x="3348000" y="4149720"/>
            <a:ext cx="540072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Gothic"/>
              </a:rPr>
              <a:t>защиту их  пр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4" descr="C:\Users\User\Desktop\Искак\Логотипы\ЛОГО тел доверия 1.jpg"/>
          <p:cNvPicPr/>
          <p:nvPr/>
        </p:nvPicPr>
        <p:blipFill>
          <a:blip r:embed="rId3"/>
          <a:stretch/>
        </p:blipFill>
        <p:spPr>
          <a:xfrm>
            <a:off x="428760" y="214200"/>
            <a:ext cx="1009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Где получить информацию:</a:t>
            </a:r>
            <a:endParaRPr b="0" lang="en-US" sz="40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36" name="Picture 5" descr="C:\Users\User\Desktop\Рисунок1.png"/>
          <p:cNvPicPr/>
          <p:nvPr/>
        </p:nvPicPr>
        <p:blipFill>
          <a:blip r:embed="rId1"/>
          <a:stretch/>
        </p:blipFill>
        <p:spPr>
          <a:xfrm>
            <a:off x="1000080" y="3133800"/>
            <a:ext cx="2928960" cy="32241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C:\Users\User\Desktop\Рисунок2.png"/>
          <p:cNvPicPr/>
          <p:nvPr/>
        </p:nvPicPr>
        <p:blipFill>
          <a:blip r:embed="rId2"/>
          <a:stretch/>
        </p:blipFill>
        <p:spPr>
          <a:xfrm>
            <a:off x="4757760" y="2948040"/>
            <a:ext cx="2957400" cy="3328920"/>
          </a:xfrm>
          <a:prstGeom prst="rect">
            <a:avLst/>
          </a:prstGeom>
          <a:ln w="0">
            <a:noFill/>
          </a:ln>
        </p:spPr>
      </p:pic>
      <p:sp>
        <p:nvSpPr>
          <p:cNvPr id="438" name="TextBox 4"/>
          <p:cNvSpPr/>
          <p:nvPr/>
        </p:nvSpPr>
        <p:spPr>
          <a:xfrm>
            <a:off x="1214280" y="185724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2060"/>
                </a:solidFill>
                <a:uFillTx/>
                <a:latin typeface="Century Gothic"/>
              </a:rPr>
              <a:t>www.balaombudsman.k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99680" y="17146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Всеказахстанский урок «Доверие 111» проводится в  рамках </a:t>
            </a:r>
            <a:r>
              <a:rPr b="1" lang="kk-KZ" sz="2000" spc="-1" strike="noStrike">
                <a:solidFill>
                  <a:srgbClr val="c00000"/>
                </a:solidFill>
                <a:latin typeface="Century Gothic"/>
              </a:rPr>
              <a:t>международной конференции «Казахстан, дружественный к ребенку!»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, направленный </a:t>
            </a:r>
            <a:r>
              <a:rPr b="1" lang="kk-KZ" sz="2000" spc="-1" strike="noStrike">
                <a:solidFill>
                  <a:srgbClr val="002060"/>
                </a:solidFill>
                <a:latin typeface="Century Gothic"/>
              </a:rPr>
              <a:t>на 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повышение узнаваемости о функционировании Национального телефона доверия 111 для детей и молодежи, а также уровня доверия среди детей и подростков к телефону доверия как услуге экстренной консультативной, психологической и юридической помощ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Заголовок 1"/>
          <p:cNvSpPr/>
          <p:nvPr/>
        </p:nvSpPr>
        <p:spPr>
          <a:xfrm>
            <a:off x="4429080" y="214200"/>
            <a:ext cx="442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Segoe UI Semibold"/>
              </a:rPr>
              <a:t>Урок, как </a:t>
            </a:r>
            <a:r>
              <a:rPr b="1" lang="ru-RU" sz="2400" spc="-1" strike="noStrike">
                <a:solidFill>
                  <a:srgbClr val="000066"/>
                </a:solidFill>
                <a:latin typeface="Segoe UI Semibold"/>
              </a:rPr>
              <a:t>часть большой социальной ка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C:\Users\User\Desktop\Искак\Логотипы\ЛОГО тел доверия 1.jpg"/>
          <p:cNvPicPr/>
          <p:nvPr/>
        </p:nvPicPr>
        <p:blipFill>
          <a:blip r:embed="rId1"/>
          <a:stretch/>
        </p:blipFill>
        <p:spPr>
          <a:xfrm>
            <a:off x="428760" y="214200"/>
            <a:ext cx="1009440" cy="9288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C:\Users\User\Downloads\УПР (1).jpg"/>
          <p:cNvPicPr/>
          <p:nvPr/>
        </p:nvPicPr>
        <p:blipFill>
          <a:blip r:embed="rId2"/>
          <a:stretch/>
        </p:blipFill>
        <p:spPr>
          <a:xfrm>
            <a:off x="2919240" y="4352760"/>
            <a:ext cx="348156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Заголовок 1"/>
          <p:cNvSpPr/>
          <p:nvPr/>
        </p:nvSpPr>
        <p:spPr>
          <a:xfrm>
            <a:off x="60948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23232"/>
                </a:solidFill>
                <a:latin typeface="Century Gothic"/>
              </a:rPr>
              <a:t>                             </a:t>
            </a:r>
            <a:r>
              <a:rPr b="1" lang="ru-RU" sz="3400" spc="-1" strike="noStrike">
                <a:solidFill>
                  <a:srgbClr val="000066"/>
                </a:solidFill>
                <a:latin typeface="Century Gothic"/>
              </a:rPr>
              <a:t>История созда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C:\Users\User\Desktop\Искак\Логотипы\ЛОГО тел доверия 1.jpg"/>
          <p:cNvPicPr/>
          <p:nvPr/>
        </p:nvPicPr>
        <p:blipFill>
          <a:blip r:embed="rId1"/>
          <a:stretch/>
        </p:blipFill>
        <p:spPr>
          <a:xfrm>
            <a:off x="500040" y="214200"/>
            <a:ext cx="857160" cy="84960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6"/>
          <p:cNvSpPr/>
          <p:nvPr/>
        </p:nvSpPr>
        <p:spPr>
          <a:xfrm>
            <a:off x="642960" y="2018520"/>
            <a:ext cx="7572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c00000"/>
                </a:solidFill>
                <a:latin typeface="Century Gothic"/>
                <a:ea typeface="Calibri"/>
              </a:rPr>
              <a:t>Круглосуточный телефон доверия 111 </a:t>
            </a:r>
            <a:r>
              <a:rPr b="1" lang="kk-KZ" sz="2800" spc="-1" strike="noStrike">
                <a:solidFill>
                  <a:srgbClr val="002060"/>
                </a:solidFill>
                <a:latin typeface="Century Gothic"/>
                <a:ea typeface="Calibri"/>
              </a:rPr>
              <a:t>создан в </a:t>
            </a:r>
            <a:r>
              <a:rPr b="1" lang="ru-RU" sz="2800" spc="-1" strike="noStrike">
                <a:solidFill>
                  <a:srgbClr val="002060"/>
                </a:solidFill>
                <a:latin typeface="Century Gothic"/>
                <a:ea typeface="Calibri"/>
              </a:rPr>
              <a:t>ноябре 2016 года,  при поддержке Правительства Республики Казахстан в сотрудничестве с Детским фондом ООН ЮНИСЕФ в РК, Региональным </a:t>
            </a:r>
            <a:r>
              <a:rPr b="1" lang="kk-KZ" sz="2800" spc="-1" strike="noStrike">
                <a:solidFill>
                  <a:srgbClr val="002060"/>
                </a:solidFill>
                <a:latin typeface="Century Gothic"/>
                <a:ea typeface="Calibri"/>
              </a:rPr>
              <a:t>П</a:t>
            </a:r>
            <a:r>
              <a:rPr b="1" lang="ru-RU" sz="2800" spc="-1" strike="noStrike">
                <a:solidFill>
                  <a:srgbClr val="002060"/>
                </a:solidFill>
                <a:latin typeface="Century Gothic"/>
                <a:ea typeface="Calibri"/>
              </a:rPr>
              <a:t>редставительством</a:t>
            </a:r>
            <a:r>
              <a:rPr b="1" lang="kk-KZ" sz="2800" spc="-1" strike="noStrike">
                <a:solidFill>
                  <a:srgbClr val="002060"/>
                </a:solidFill>
                <a:latin typeface="Century Gothic"/>
                <a:ea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Gothic"/>
                <a:ea typeface="Calibri"/>
              </a:rPr>
              <a:t>Международной тюремной реформы PRI в Центральной Азии и Конгресс</a:t>
            </a:r>
            <a:r>
              <a:rPr b="1" lang="kk-KZ" sz="2800" spc="-1" strike="noStrike">
                <a:solidFill>
                  <a:srgbClr val="002060"/>
                </a:solidFill>
                <a:latin typeface="Century Gothic"/>
                <a:ea typeface="Calibri"/>
              </a:rPr>
              <a:t>ом</a:t>
            </a:r>
            <a:r>
              <a:rPr b="1" lang="ru-RU" sz="2800" spc="-1" strike="noStrike">
                <a:solidFill>
                  <a:srgbClr val="002060"/>
                </a:solidFill>
                <a:latin typeface="Century Gothic"/>
                <a:ea typeface="Calibri"/>
              </a:rPr>
              <a:t> молодежи Казахст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Заголовок 1"/>
          <p:cNvSpPr/>
          <p:nvPr/>
        </p:nvSpPr>
        <p:spPr>
          <a:xfrm>
            <a:off x="3214800" y="214200"/>
            <a:ext cx="55720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232"/>
                </a:solidFill>
                <a:latin typeface="Century Gothic"/>
              </a:rPr>
              <a:t>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Century Gothic"/>
              </a:rPr>
              <a:t>Организационная структура телефона дов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4" descr="C:\Users\User\Desktop\Искак\Логотипы\ЛОГО тел доверия 1.jpg"/>
          <p:cNvPicPr/>
          <p:nvPr/>
        </p:nvPicPr>
        <p:blipFill>
          <a:blip r:embed="rId1"/>
          <a:stretch/>
        </p:blipFill>
        <p:spPr>
          <a:xfrm>
            <a:off x="500040" y="293760"/>
            <a:ext cx="857160" cy="849240"/>
          </a:xfrm>
          <a:prstGeom prst="rect">
            <a:avLst/>
          </a:prstGeom>
          <a:ln w="0">
            <a:noFill/>
          </a:ln>
        </p:spPr>
      </p:pic>
      <p:pic>
        <p:nvPicPr>
          <p:cNvPr id="444" name="Схема 4" descr=""/>
          <p:cNvPicPr/>
          <p:nvPr/>
        </p:nvPicPr>
        <p:blipFill>
          <a:blip r:embed="rId2"/>
          <a:stretch/>
        </p:blipFill>
        <p:spPr>
          <a:xfrm>
            <a:off x="401760" y="1609560"/>
            <a:ext cx="8327880" cy="465156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5" descr=""/>
          <p:cNvPicPr/>
          <p:nvPr/>
        </p:nvPicPr>
        <p:blipFill>
          <a:blip r:embed="rId3"/>
          <a:stretch/>
        </p:blipFill>
        <p:spPr>
          <a:xfrm>
            <a:off x="4286160" y="4214880"/>
            <a:ext cx="903240" cy="38736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7" descr=""/>
          <p:cNvPicPr/>
          <p:nvPr/>
        </p:nvPicPr>
        <p:blipFill>
          <a:blip r:embed="rId4"/>
          <a:stretch/>
        </p:blipFill>
        <p:spPr>
          <a:xfrm>
            <a:off x="4357800" y="4929120"/>
            <a:ext cx="758880" cy="75888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8" descr=""/>
          <p:cNvPicPr/>
          <p:nvPr/>
        </p:nvPicPr>
        <p:blipFill>
          <a:blip r:embed="rId5"/>
          <a:stretch/>
        </p:blipFill>
        <p:spPr>
          <a:xfrm>
            <a:off x="4357800" y="3000240"/>
            <a:ext cx="691920" cy="6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857240" y="142920"/>
            <a:ext cx="6724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Ты можешь позвонить на  телефон доверия, если:</a:t>
            </a:r>
            <a:br>
              <a:rPr sz="3200"/>
            </a:b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42960" y="1928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Возникли сложности в отношениях в семь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Тяжело переживаешь ссору с другом/подруг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Возникли проблемы в шко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Тебе страш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Чувствуешь себя одинок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Не знаешь, как поступить в сложной ситу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Переживаешь расста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2060"/>
                </a:solidFill>
                <a:latin typeface="Century Gothic"/>
              </a:rPr>
              <a:t>и многие другие вопро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Picture 4" descr="C:\Users\User\Desktop\Искак\Логотипы\ЛОГО тел доверия 1.jpg"/>
          <p:cNvPicPr/>
          <p:nvPr/>
        </p:nvPicPr>
        <p:blipFill>
          <a:blip r:embed="rId1"/>
          <a:stretch/>
        </p:blipFill>
        <p:spPr>
          <a:xfrm>
            <a:off x="500040" y="293760"/>
            <a:ext cx="85716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entury Gothic"/>
              </a:rPr>
              <a:t>Сложные вопросы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571680" y="1600200"/>
            <a:ext cx="81943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0" i="1" lang="ru-RU" sz="1600" spc="-1" strike="noStrike">
                <a:solidFill>
                  <a:srgbClr val="000066"/>
                </a:solidFill>
                <a:latin typeface="Century Gothic"/>
              </a:rPr>
              <a:t>Если кем-то из участников будут озвучены вопросы, касающиеся жестокого обращения, насилия, суицида, важно подчеркнуть значимость этих тем и уделить им внима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entury Gothic"/>
              </a:rPr>
              <a:t>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Century Gothic"/>
              </a:rPr>
              <a:t>Если вы чувствуете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Century Gothic"/>
              </a:rPr>
              <a:t>что </a:t>
            </a:r>
            <a:r>
              <a:rPr b="1" lang="ru-RU" sz="1600" spc="-1" strike="noStrike">
                <a:solidFill>
                  <a:srgbClr val="000066"/>
                </a:solidFill>
                <a:latin typeface="Century Gothic"/>
              </a:rPr>
              <a:t>вопрос требует глубокого ответа</a:t>
            </a:r>
            <a:r>
              <a:rPr b="0" lang="ru-RU" sz="1600" spc="-1" strike="noStrike">
                <a:solidFill>
                  <a:srgbClr val="000066"/>
                </a:solidFill>
                <a:latin typeface="Century Gothic"/>
              </a:rPr>
              <a:t>, который может занять много време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Century Gothic"/>
              </a:rPr>
              <a:t>вопрос </a:t>
            </a:r>
            <a:r>
              <a:rPr b="1" lang="ru-RU" sz="1600" spc="-1" strike="noStrike">
                <a:solidFill>
                  <a:srgbClr val="000066"/>
                </a:solidFill>
                <a:latin typeface="Century Gothic"/>
              </a:rPr>
              <a:t>носит провокационный характе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entury Gothic"/>
              </a:rPr>
              <a:t>не чувствуете достаточной компетен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entury Gothic"/>
              </a:rPr>
              <a:t>рекомендуем не прорабатывать его на данном занят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Century Gothic"/>
              </a:rPr>
              <a:t>Поблагодарите участника за вопрос, подчеркните его значимость, объясните, что в рамках занятия не можете уделить внимание данному вопросу в полной мере, </a:t>
            </a:r>
            <a:r>
              <a:rPr b="1" lang="ru-RU" sz="1600" spc="-1" strike="noStrike">
                <a:solidFill>
                  <a:srgbClr val="000066"/>
                </a:solidFill>
                <a:latin typeface="Century Gothic"/>
              </a:rPr>
              <a:t>предложите обсудить его после занятия</a:t>
            </a:r>
            <a:r>
              <a:rPr b="0" lang="ru-RU" sz="1600" spc="-1" strike="noStrike">
                <a:solidFill>
                  <a:srgbClr val="000066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Century Gothic"/>
              </a:rPr>
              <a:t>Уточните, насколько это интересно всему классу, если вы поймете, что данный вопрос волнует многих, </a:t>
            </a:r>
            <a:r>
              <a:rPr b="1" lang="ru-RU" sz="1600" spc="-1" strike="noStrike">
                <a:solidFill>
                  <a:srgbClr val="000066"/>
                </a:solidFill>
                <a:latin typeface="Century Gothic"/>
              </a:rPr>
              <a:t>предложите  сделать его  темой следующего классного ча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4" descr="C:\Users\User\Desktop\Искак\Логотипы\ЛОГО тел доверия 1.jpg"/>
          <p:cNvPicPr/>
          <p:nvPr/>
        </p:nvPicPr>
        <p:blipFill>
          <a:blip r:embed="rId1"/>
          <a:stretch/>
        </p:blipFill>
        <p:spPr>
          <a:xfrm>
            <a:off x="500040" y="293760"/>
            <a:ext cx="85716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642960" y="2999880"/>
            <a:ext cx="81532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entury Gothic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Segoe UI Semibold"/>
              </a:rPr>
              <a:t>Цели и задачи урока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entury Gothic"/>
              </a:rPr>
              <a:t>Цели урок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entury Gothic"/>
              </a:rPr>
              <a:t>     </a:t>
            </a:r>
            <a:r>
              <a:rPr b="0" lang="ru-RU" sz="2000" spc="-1" strike="noStrike">
                <a:solidFill>
                  <a:srgbClr val="000066"/>
                </a:solidFill>
                <a:latin typeface="Century Gothic"/>
              </a:rPr>
              <a:t>Повышение узнаваемости номера телефона доверия </a:t>
            </a:r>
            <a:r>
              <a:rPr b="0" i="1" lang="ru-RU" sz="2000" spc="-1" strike="noStrike">
                <a:solidFill>
                  <a:srgbClr val="000066"/>
                </a:solidFill>
                <a:latin typeface="Century Gothic"/>
              </a:rPr>
              <a:t>111</a:t>
            </a:r>
            <a:r>
              <a:rPr b="0" lang="ru-RU" sz="2000" spc="-1" strike="noStrike">
                <a:solidFill>
                  <a:srgbClr val="000066"/>
                </a:solidFill>
                <a:latin typeface="Century Gothic"/>
              </a:rPr>
              <a:t>, а также повышение уровня доверия среди детей и подростков к детскому телефону доверия как услуге экстренной психологической помощи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entury Gothic"/>
              </a:rPr>
              <a:t>Задачи</a:t>
            </a:r>
            <a:r>
              <a:rPr b="0" lang="ru-RU" sz="2000" spc="-1" strike="noStrike">
                <a:solidFill>
                  <a:srgbClr val="ff0000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entury Gothic"/>
              </a:rPr>
              <a:t>Актуализация вопроса существования Телефона доверия и возможности получения экстренной психологической помощи в случае необходимости для детей, участников Всеказахстанского  урока «Время доверят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entury Gothic"/>
              </a:rPr>
              <a:t>Формирование представлений детей о жизненных ситуациях, которые требуют обязательного обращения за помощь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entury Gothic"/>
              </a:rPr>
              <a:t>Информирование детей о работе телефона доверия. Формирование положительного образа службы телефона довер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4" descr="C:\Users\User\Desktop\Искак\Логотипы\ЛОГО тел доверия 1.jpg"/>
          <p:cNvPicPr/>
          <p:nvPr/>
        </p:nvPicPr>
        <p:blipFill>
          <a:blip r:embed="rId1"/>
          <a:stretch/>
        </p:blipFill>
        <p:spPr>
          <a:xfrm>
            <a:off x="428760" y="214200"/>
            <a:ext cx="1009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66"/>
                </a:solidFill>
                <a:latin typeface="Century Gothic"/>
              </a:rPr>
              <a:t>Форма проведения</a:t>
            </a:r>
            <a:r>
              <a:rPr b="0" lang="ru-RU" sz="2700" spc="-1" strike="noStrike">
                <a:solidFill>
                  <a:srgbClr val="000066"/>
                </a:solidFill>
                <a:latin typeface="Century Gothic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Century Gothic"/>
              </a:rPr>
              <a:t>    </a:t>
            </a:r>
            <a:r>
              <a:rPr b="0" lang="ru-RU" sz="2700" spc="-1" strike="noStrike">
                <a:solidFill>
                  <a:srgbClr val="000066"/>
                </a:solidFill>
                <a:latin typeface="Century Gothic"/>
              </a:rPr>
              <a:t>классный час с элементами тренинговой, игровой и проектной работ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66"/>
                </a:solidFill>
                <a:latin typeface="Century Gothic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66"/>
                </a:solidFill>
                <a:latin typeface="Century Gothic"/>
              </a:rPr>
              <a:t>Ведущий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66"/>
                </a:solidFill>
                <a:latin typeface="Century Gothic"/>
              </a:rPr>
              <a:t>    </a:t>
            </a:r>
            <a:r>
              <a:rPr b="0" lang="ru-RU" sz="2700" spc="-1" strike="noStrike">
                <a:solidFill>
                  <a:srgbClr val="000066"/>
                </a:solidFill>
                <a:latin typeface="Century Gothic"/>
              </a:rPr>
              <a:t>психолог, классный руководител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66"/>
                </a:solidFill>
                <a:latin typeface="Century Gothic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66"/>
                </a:solidFill>
                <a:latin typeface="Century Gothic"/>
              </a:rPr>
              <a:t>Место проведения</a:t>
            </a:r>
            <a:r>
              <a:rPr b="0" lang="ru-RU" sz="2700" spc="-1" strike="noStrike">
                <a:solidFill>
                  <a:srgbClr val="000066"/>
                </a:solidFill>
                <a:latin typeface="Century Gothic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Century Gothic"/>
              </a:rPr>
              <a:t>    </a:t>
            </a:r>
            <a:r>
              <a:rPr b="0" lang="ru-RU" sz="2700" spc="-1" strike="noStrike">
                <a:solidFill>
                  <a:srgbClr val="000066"/>
                </a:solidFill>
                <a:latin typeface="Century Gothic"/>
              </a:rPr>
              <a:t>тренинговый зал или учебный клас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4" descr="C:\Users\User\Desktop\Искак\Логотипы\ЛОГО тел доверия 1.jpg"/>
          <p:cNvPicPr/>
          <p:nvPr/>
        </p:nvPicPr>
        <p:blipFill>
          <a:blip r:embed="rId1"/>
          <a:stretch/>
        </p:blipFill>
        <p:spPr>
          <a:xfrm>
            <a:off x="428760" y="214200"/>
            <a:ext cx="1009440" cy="92880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4"/>
          <p:cNvSpPr/>
          <p:nvPr/>
        </p:nvSpPr>
        <p:spPr>
          <a:xfrm>
            <a:off x="4024080" y="357120"/>
            <a:ext cx="48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entury Gothic"/>
              </a:rPr>
              <a:t>Форма про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43040" y="357120"/>
            <a:ext cx="7122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entury Gothic"/>
              </a:rPr>
              <a:t>Необходимое оборудование</a:t>
            </a:r>
            <a:br>
              <a:rPr sz="3200"/>
            </a:b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7168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Gothic"/>
              </a:rPr>
              <a:t>Классная доска/флипчарт с блокно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Gothic"/>
              </a:rPr>
              <a:t>Мел/марке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Gothic"/>
              </a:rPr>
              <a:t>Ноутбук/компьют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Gothic"/>
              </a:rPr>
              <a:t>Проектор и экр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Gothic"/>
              </a:rPr>
              <a:t>Аудиоколон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4" descr="C:\Users\User\Desktop\Искак\Логотипы\ЛОГО тел доверия 1.jpg"/>
          <p:cNvPicPr/>
          <p:nvPr/>
        </p:nvPicPr>
        <p:blipFill>
          <a:blip r:embed="rId1"/>
          <a:stretch/>
        </p:blipFill>
        <p:spPr>
          <a:xfrm>
            <a:off x="428760" y="214200"/>
            <a:ext cx="1009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entury Gothic"/>
              </a:rPr>
              <a:t>Вводная часть и Разогрев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24000" y="1599840"/>
            <a:ext cx="8442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66"/>
                </a:solidFill>
                <a:latin typeface="Century Gothic"/>
              </a:rPr>
              <a:t>Упражнение «Ассоциаци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entury Gothic"/>
              </a:rPr>
              <a:t>Задачи упражнения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66"/>
                </a:solidFill>
                <a:latin typeface="Century Gothic"/>
              </a:rPr>
              <a:t>настроить детей на работу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66"/>
                </a:solidFill>
                <a:latin typeface="Century Gothic"/>
              </a:rPr>
              <a:t>помочь переключиться с предыдущего урока на      новое заняти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66"/>
                </a:solidFill>
                <a:latin typeface="Century Gothic"/>
              </a:rPr>
              <a:t>снять психологическое напряжени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66"/>
                </a:solidFill>
                <a:latin typeface="Century Gothic"/>
              </a:rPr>
              <a:t>активизировать  мыслительные процесс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66"/>
                </a:solidFill>
                <a:latin typeface="Century Gothic"/>
              </a:rPr>
              <a:t>повысить  работоспособност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4" descr="C:\Users\User\Desktop\Искак\Логотипы\ЛОГО тел доверия 1.jpg"/>
          <p:cNvPicPr/>
          <p:nvPr/>
        </p:nvPicPr>
        <p:blipFill>
          <a:blip r:embed="rId1"/>
          <a:stretch/>
        </p:blipFill>
        <p:spPr>
          <a:xfrm>
            <a:off x="428760" y="214200"/>
            <a:ext cx="1009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785680" y="228600"/>
            <a:ext cx="5979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Gothic"/>
              </a:rPr>
              <a:t>Рекомендации к проведению упражнения «Ассоциации»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50560" y="1599840"/>
            <a:ext cx="8515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Gothic"/>
              </a:rPr>
              <a:t>В рамках данного урока рекомендуем сразу задать слово, исходя из темы урока, и предложить первому участнику дать ассоциацию на слово «Довери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Gothic"/>
              </a:rPr>
              <a:t>Если у кого-то из участников возникают сложности с подбором ассоциации, то его необходимо поддержать, дать понять, что в этой игре нет «правильных» и «неправильных» отве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Gothic"/>
              </a:rPr>
              <a:t>Важно поддерживать и сохранять интенсивную динамику упражн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4" descr="C:\Users\User\Desktop\Искак\Логотипы\ЛОГО тел доверия 1.jpg"/>
          <p:cNvPicPr/>
          <p:nvPr/>
        </p:nvPicPr>
        <p:blipFill>
          <a:blip r:embed="rId1"/>
          <a:stretch/>
        </p:blipFill>
        <p:spPr>
          <a:xfrm>
            <a:off x="428760" y="214200"/>
            <a:ext cx="1009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12720" y="2071440"/>
            <a:ext cx="815328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Century Gothic"/>
              </a:rPr>
              <a:t>Методические рекомендации к уроку «Доверие 111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4" name="Picture 4" descr="C:\Users\User\Desktop\Искак\Логотипы\ЛОГО тел доверия 1.jpg"/>
          <p:cNvPicPr/>
          <p:nvPr/>
        </p:nvPicPr>
        <p:blipFill>
          <a:blip r:embed="rId1"/>
          <a:stretch/>
        </p:blipFill>
        <p:spPr>
          <a:xfrm>
            <a:off x="428760" y="214200"/>
            <a:ext cx="1009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entury Gothic"/>
              </a:rPr>
              <a:t>Погружение в тему урока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50560" y="1600200"/>
            <a:ext cx="8515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Century Gothic"/>
              </a:rPr>
              <a:t>Упражнение «Да, Нет, Не знаю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Задачи упраж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Gothic"/>
              </a:rPr>
              <a:t>1. </a:t>
            </a:r>
            <a:r>
              <a:rPr b="1" lang="ru-RU" sz="2400" spc="-1" strike="noStrike">
                <a:solidFill>
                  <a:srgbClr val="000066"/>
                </a:solidFill>
                <a:latin typeface="Century Gothic"/>
              </a:rPr>
              <a:t>помочь участник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Gothic"/>
              </a:rPr>
              <a:t>углубиться в тематику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Gothic"/>
              </a:rPr>
              <a:t>получить знания о телефоне дов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Gothic"/>
              </a:rPr>
              <a:t>2. </a:t>
            </a:r>
            <a:r>
              <a:rPr b="1" lang="ru-RU" sz="2400" spc="-1" strike="noStrike">
                <a:solidFill>
                  <a:srgbClr val="000066"/>
                </a:solidFill>
                <a:latin typeface="Century Gothic"/>
              </a:rPr>
              <a:t>выявить информацию </a:t>
            </a:r>
            <a:r>
              <a:rPr b="0" lang="ru-RU" sz="2400" spc="-1" strike="noStrike">
                <a:solidFill>
                  <a:srgbClr val="000066"/>
                </a:solidFill>
                <a:latin typeface="Century Gothic"/>
              </a:rPr>
              <a:t>об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Gothic"/>
              </a:rPr>
              <a:t>отношении детей к Детскому телефону дов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Gothic"/>
              </a:rPr>
              <a:t>уровне владения информаци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Gothic"/>
              </a:rPr>
              <a:t>актуальности и значимости данной 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4" descr="C:\Users\User\Desktop\Искак\Логотипы\ЛОГО тел доверия 1.jpg"/>
          <p:cNvPicPr/>
          <p:nvPr/>
        </p:nvPicPr>
        <p:blipFill>
          <a:blip r:embed="rId1"/>
          <a:stretch/>
        </p:blipFill>
        <p:spPr>
          <a:xfrm>
            <a:off x="428760" y="214200"/>
            <a:ext cx="1009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8T12:08:41Z</dcterms:created>
  <dc:creator>2</dc:creator>
  <dc:description/>
  <dc:language>en-US</dc:language>
  <cp:lastModifiedBy>User</cp:lastModifiedBy>
  <dcterms:modified xsi:type="dcterms:W3CDTF">2017-11-13T12:52:38Z</dcterms:modified>
  <cp:revision>43</cp:revision>
  <dc:subject/>
  <dc:title>Слайд 1</dc:title>
</cp:coreProperties>
</file>